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bomb.wav" ContentType="audio/x-wav"/>
  <Override PartName="/ppt/media/image7.jpeg" ContentType="image/jpeg"/>
  <Override PartName="/ppt/media/image12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4E0-F369-49F4-A5C0-B300B852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C757-3769-4073-BFFC-B96A11FC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A87F-4E69-4DFA-A64E-EB6CB0737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951D-BA0B-4DA8-9571-F31AAF8F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7524-488D-477B-A50D-2F43DEF8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30A-782C-4735-966C-1A76671E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03AC-5AAA-461C-B417-4B502FD9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87B3-8E21-4AAA-AC7C-F03A22C8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2562-8D70-4E08-AE6C-CB1CAA1B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440C-602A-4545-9562-08E36E4D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5991-9219-4F45-8DF5-B2BC78EE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803D-A66D-4D0A-AFF6-3ADD94ED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B2AA-CC2C-4D10-9E8C-0186DF909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12.xml"/><Relationship Id="rId5" Type="http://schemas.openxmlformats.org/officeDocument/2006/relationships/slide" Target="slide26.xml"/><Relationship Id="rId6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28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29.xml"/><Relationship Id="rId6" Type="http://schemas.openxmlformats.org/officeDocument/2006/relationships/slide" Target="slide29.xm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slide" Target="slide4.xml"/><Relationship Id="rId4" Type="http://schemas.openxmlformats.org/officeDocument/2006/relationships/slide" Target="slide12.xml"/><Relationship Id="rId5" Type="http://schemas.openxmlformats.org/officeDocument/2006/relationships/slide" Target="slide32.xml"/><Relationship Id="rId6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34.xml"/><Relationship Id="rId6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35.xml"/><Relationship Id="rId6" Type="http://schemas.openxmlformats.org/officeDocument/2006/relationships/slide" Target="slide35.xm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8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slide" Target="slide38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40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jpe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41.xml"/><Relationship Id="rId6" Type="http://schemas.openxmlformats.org/officeDocument/2006/relationships/slide" Target="slide41.xml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8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9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6.jpeg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00"/>
                </a:solidFill>
                <a:latin typeface="Arial"/>
              </a:rPr>
              <a:t>Efectuează următoarele înmulţiri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43000" y="5943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ffcc"/>
                </a:solidFill>
                <a:latin typeface="Arial"/>
              </a:rPr>
              <a:t>Cu un </a:t>
            </a:r>
            <a:r>
              <a:rPr b="1" lang="ro-RO" sz="3200" spc="-1" strike="noStrike">
                <a:solidFill>
                  <a:srgbClr val="00ffcc"/>
                </a:solidFill>
                <a:latin typeface="Arial"/>
                <a:ea typeface="Arial"/>
              </a:rPr>
              <a:t>„clic” alegi înmulţirea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438280"/>
            <a:ext cx="2590920" cy="6858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00"/>
                </a:solidFill>
                <a:latin typeface="Arial"/>
              </a:rPr>
              <a:t>65 x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352680"/>
            <a:ext cx="2590920" cy="6858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00"/>
                </a:solidFill>
                <a:latin typeface="Arial"/>
              </a:rPr>
              <a:t>138 x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2362320"/>
            <a:ext cx="2362320" cy="6858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00"/>
                </a:solidFill>
                <a:latin typeface="Arial"/>
              </a:rPr>
              <a:t>86 x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457200" y="1523880"/>
            <a:ext cx="2590920" cy="6858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00"/>
                </a:solidFill>
                <a:latin typeface="Arial"/>
              </a:rPr>
              <a:t>124 x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352680"/>
            <a:ext cx="2362320" cy="6858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00"/>
                </a:solidFill>
                <a:latin typeface="Arial"/>
              </a:rPr>
              <a:t>98 x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09480" y="1828800"/>
            <a:ext cx="381240" cy="32076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609480" y="2666880"/>
            <a:ext cx="381240" cy="32076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3429000" y="1523880"/>
            <a:ext cx="2362320" cy="6858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00"/>
                </a:solidFill>
                <a:latin typeface="Arial"/>
              </a:rPr>
              <a:t>37 x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09480" y="3505320"/>
            <a:ext cx="381240" cy="3204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3581280" y="1752480"/>
            <a:ext cx="381240" cy="32076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3581280" y="2590920"/>
            <a:ext cx="381240" cy="3204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3581280" y="3581280"/>
            <a:ext cx="381240" cy="32076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55" name=""/>
          <p:cNvSpPr txBox="1"/>
          <p:nvPr/>
        </p:nvSpPr>
        <p:spPr>
          <a:xfrm>
            <a:off x="6172200" y="1523880"/>
            <a:ext cx="2743200" cy="3200400"/>
          </a:xfrm>
          <a:prstGeom prst="rect">
            <a:avLst/>
          </a:prstGeom>
          <a:solidFill>
            <a:srgbClr val="00ffff"/>
          </a:solidFill>
          <a:ln w="5724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rin acest joc recapitulăm înmulţi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Se exersează regula de scriere a produsului de la dreapta la stânga :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unităţ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- zec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- sute.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65 x 7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7 x 5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6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>
            <a:hlinkClick r:id="" action="ppaction://hlinkshowjump?jump=nex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>
            <a:hlinkClick r:id="rId3" action="ppaction://hlinksldjump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>
            <a:hlinkClick r:id="" action="ppaction://hlinkshowjump?jump=nex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 rot="2154000">
            <a:off x="1044360" y="2339640"/>
            <a:ext cx="571500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5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62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627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5 x 7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>
            <a:hlinkClick r:id="" action="ppaction://hlinkshowjump?jump=previousslide"/>
          </p:cNvPr>
          <p:cNvSpPr/>
          <p:nvPr/>
        </p:nvSpPr>
        <p:spPr>
          <a:xfrm>
            <a:off x="6858000" y="3886200"/>
            <a:ext cx="1828800" cy="198108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080"/>
              <a:gd name="textAreaBottom" fmla="*/ 1862640 h 1981080"/>
            </a:gdLst>
            <a:ahLst/>
            <a:rect l="textAreaLeft" t="textAreaTop" r="textAreaRight" b="textAreaBottom"/>
            <a:pathLst>
              <a:path w="21600" h="23398">
                <a:moveTo>
                  <a:pt x="0" y="0"/>
                </a:moveTo>
                <a:lnTo>
                  <a:pt x="21600" y="0"/>
                </a:lnTo>
                <a:lnTo>
                  <a:pt x="21600" y="23398"/>
                </a:lnTo>
                <a:lnTo>
                  <a:pt x="0" y="23398"/>
                </a:lnTo>
                <a:close/>
              </a:path>
              <a:path fill="lightenLess" w="21600" h="23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8">
                <a:moveTo>
                  <a:pt x="21600" y="0"/>
                </a:moveTo>
                <a:lnTo>
                  <a:pt x="21600" y="23398"/>
                </a:lnTo>
                <a:lnTo>
                  <a:pt x="20200" y="21998"/>
                </a:lnTo>
                <a:lnTo>
                  <a:pt x="20200" y="1400"/>
                </a:lnTo>
                <a:close/>
              </a:path>
              <a:path fill="darkenLess" w="21600" h="23398">
                <a:moveTo>
                  <a:pt x="21600" y="23398"/>
                </a:moveTo>
                <a:lnTo>
                  <a:pt x="0" y="23398"/>
                </a:lnTo>
                <a:lnTo>
                  <a:pt x="1400" y="21998"/>
                </a:lnTo>
                <a:lnTo>
                  <a:pt x="20200" y="21998"/>
                </a:lnTo>
                <a:close/>
              </a:path>
              <a:path fill="lighten" w="21600" h="23398">
                <a:moveTo>
                  <a:pt x="0" y="23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8"/>
                </a:lnTo>
                <a:close/>
              </a:path>
              <a:path fill="darken" w="21600" h="23398">
                <a:moveTo>
                  <a:pt x="3794" y="8392"/>
                </a:moveTo>
                <a:lnTo>
                  <a:pt x="7301" y="8392"/>
                </a:lnTo>
                <a:lnTo>
                  <a:pt x="7301" y="13727"/>
                </a:lnTo>
                <a:cubicBezTo>
                  <a:pt x="7301" y="14650"/>
                  <a:pt x="8102" y="15381"/>
                  <a:pt x="9138" y="15381"/>
                </a:cubicBezTo>
                <a:lnTo>
                  <a:pt x="10800" y="15381"/>
                </a:lnTo>
                <a:cubicBezTo>
                  <a:pt x="11836" y="15381"/>
                  <a:pt x="12636" y="14650"/>
                  <a:pt x="12636" y="13727"/>
                </a:cubicBezTo>
                <a:lnTo>
                  <a:pt x="12636" y="8392"/>
                </a:lnTo>
                <a:lnTo>
                  <a:pt x="10800" y="8392"/>
                </a:lnTo>
                <a:lnTo>
                  <a:pt x="14308" y="4884"/>
                </a:lnTo>
                <a:lnTo>
                  <a:pt x="17981" y="8392"/>
                </a:lnTo>
                <a:lnTo>
                  <a:pt x="16144" y="8392"/>
                </a:lnTo>
                <a:lnTo>
                  <a:pt x="16144" y="13727"/>
                </a:lnTo>
                <a:cubicBezTo>
                  <a:pt x="16144" y="16495"/>
                  <a:pt x="13568" y="19054"/>
                  <a:pt x="10800" y="19054"/>
                </a:cubicBezTo>
                <a:lnTo>
                  <a:pt x="9138" y="19054"/>
                </a:lnTo>
                <a:cubicBezTo>
                  <a:pt x="6370" y="19054"/>
                  <a:pt x="3794" y="16495"/>
                  <a:pt x="3794" y="13727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914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65 x 7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7 x 6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6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>
            <a:hlinkClick r:id="rId3" action="ppaction://hlinksldjump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04920" y="4038480"/>
            <a:ext cx="2666880" cy="25909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35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scriem la unităţ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adună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la z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 txBox="1"/>
          <p:nvPr/>
        </p:nvSpPr>
        <p:spPr>
          <a:xfrm rot="2154000">
            <a:off x="706320" y="1976400"/>
            <a:ext cx="525780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0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741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742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7 x 6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>
            <a:hlinkClick r:id="" action="ppaction://hlinkshowjump?jump=previousslide"/>
          </p:cNvPr>
          <p:cNvSpPr/>
          <p:nvPr/>
        </p:nvSpPr>
        <p:spPr>
          <a:xfrm>
            <a:off x="6858000" y="3886200"/>
            <a:ext cx="1828800" cy="198108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080"/>
              <a:gd name="textAreaBottom" fmla="*/ 1862640 h 1981080"/>
            </a:gdLst>
            <a:ahLst/>
            <a:rect l="textAreaLeft" t="textAreaTop" r="textAreaRight" b="textAreaBottom"/>
            <a:pathLst>
              <a:path w="21600" h="23398">
                <a:moveTo>
                  <a:pt x="0" y="0"/>
                </a:moveTo>
                <a:lnTo>
                  <a:pt x="21600" y="0"/>
                </a:lnTo>
                <a:lnTo>
                  <a:pt x="21600" y="23398"/>
                </a:lnTo>
                <a:lnTo>
                  <a:pt x="0" y="23398"/>
                </a:lnTo>
                <a:close/>
              </a:path>
              <a:path fill="lightenLess" w="21600" h="23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8">
                <a:moveTo>
                  <a:pt x="21600" y="0"/>
                </a:moveTo>
                <a:lnTo>
                  <a:pt x="21600" y="23398"/>
                </a:lnTo>
                <a:lnTo>
                  <a:pt x="20200" y="21998"/>
                </a:lnTo>
                <a:lnTo>
                  <a:pt x="20200" y="1400"/>
                </a:lnTo>
                <a:close/>
              </a:path>
              <a:path fill="darkenLess" w="21600" h="23398">
                <a:moveTo>
                  <a:pt x="21600" y="23398"/>
                </a:moveTo>
                <a:lnTo>
                  <a:pt x="0" y="23398"/>
                </a:lnTo>
                <a:lnTo>
                  <a:pt x="1400" y="21998"/>
                </a:lnTo>
                <a:lnTo>
                  <a:pt x="20200" y="21998"/>
                </a:lnTo>
                <a:close/>
              </a:path>
              <a:path fill="lighten" w="21600" h="23398">
                <a:moveTo>
                  <a:pt x="0" y="23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8"/>
                </a:lnTo>
                <a:close/>
              </a:path>
              <a:path fill="darken" w="21600" h="23398">
                <a:moveTo>
                  <a:pt x="3794" y="8392"/>
                </a:moveTo>
                <a:lnTo>
                  <a:pt x="7301" y="8392"/>
                </a:lnTo>
                <a:lnTo>
                  <a:pt x="7301" y="13727"/>
                </a:lnTo>
                <a:cubicBezTo>
                  <a:pt x="7301" y="14650"/>
                  <a:pt x="8102" y="15381"/>
                  <a:pt x="9138" y="15381"/>
                </a:cubicBezTo>
                <a:lnTo>
                  <a:pt x="10800" y="15381"/>
                </a:lnTo>
                <a:cubicBezTo>
                  <a:pt x="11836" y="15381"/>
                  <a:pt x="12636" y="14650"/>
                  <a:pt x="12636" y="13727"/>
                </a:cubicBezTo>
                <a:lnTo>
                  <a:pt x="12636" y="8392"/>
                </a:lnTo>
                <a:lnTo>
                  <a:pt x="10800" y="8392"/>
                </a:lnTo>
                <a:lnTo>
                  <a:pt x="14308" y="4884"/>
                </a:lnTo>
                <a:lnTo>
                  <a:pt x="17981" y="8392"/>
                </a:lnTo>
                <a:lnTo>
                  <a:pt x="16144" y="8392"/>
                </a:lnTo>
                <a:lnTo>
                  <a:pt x="16144" y="13727"/>
                </a:lnTo>
                <a:cubicBezTo>
                  <a:pt x="16144" y="16495"/>
                  <a:pt x="13568" y="19054"/>
                  <a:pt x="10800" y="19054"/>
                </a:cubicBezTo>
                <a:lnTo>
                  <a:pt x="9138" y="19054"/>
                </a:lnTo>
                <a:cubicBezTo>
                  <a:pt x="6370" y="19054"/>
                  <a:pt x="3794" y="16495"/>
                  <a:pt x="3794" y="13727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914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65 x 7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6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>
            <a:hlinkClick r:id="rId3" action="ppaction://hlinksldjump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>
            <a:hlinkClick r:id="" action="ppaction://hlinkshowjump?jump=nex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4920" y="4038480"/>
            <a:ext cx="2666880" cy="25909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42 + 3 =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45         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scriem la ze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notăm la s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106668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5720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4114800" y="380880"/>
            <a:ext cx="4648320" cy="9144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ff0000"/>
                </a:solidFill>
                <a:latin typeface="Arial"/>
              </a:rPr>
              <a:t>Verifică 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229600" y="685800"/>
            <a:ext cx="380880" cy="32076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>
            <a:hlinkClick r:id="" action="ppaction://hlinkshowjump?jump=firstslide"/>
          </p:cNvPr>
          <p:cNvSpPr/>
          <p:nvPr/>
        </p:nvSpPr>
        <p:spPr>
          <a:xfrm>
            <a:off x="304920" y="28195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00"/>
                </a:solidFill>
                <a:latin typeface="Arial"/>
              </a:rPr>
              <a:t>65 x 7 = 45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2133720" cy="1981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859" name=""/>
          <p:cNvSpPr txBox="1"/>
          <p:nvPr/>
        </p:nvSpPr>
        <p:spPr>
          <a:xfrm rot="21342000">
            <a:off x="3808440" y="1126800"/>
            <a:ext cx="4191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381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658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 i   r e u ş i t   !</a:t>
            </a:r>
            <a:endParaRPr b="1" i="1" lang="en-US" sz="4800" spc="1" strike="noStrike">
              <a:ln w="381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658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0" name="">
            <a:hlinkClick r:id="" action="ppaction://hlinkshowjump?jump=firstslide"/>
          </p:cNvPr>
          <p:cNvSpPr/>
          <p:nvPr/>
        </p:nvSpPr>
        <p:spPr>
          <a:xfrm>
            <a:off x="6858000" y="4343400"/>
            <a:ext cx="1676520" cy="1905120"/>
          </a:xfrm>
          <a:custGeom>
            <a:avLst/>
            <a:gdLst>
              <a:gd name="textAreaLeft" fmla="*/ 108360 w 1676520"/>
              <a:gd name="textAreaRight" fmla="*/ 1568160 w 1676520"/>
              <a:gd name="textAreaTop" fmla="*/ 108360 h 1905120"/>
              <a:gd name="textAreaBottom" fmla="*/ 1796760 h 1905120"/>
            </a:gdLst>
            <a:ahLst/>
            <a:rect l="textAreaLeft" t="textAreaTop" r="textAreaRight" b="textAreaBottom"/>
            <a:pathLst>
              <a:path w="21600" h="24545">
                <a:moveTo>
                  <a:pt x="0" y="0"/>
                </a:moveTo>
                <a:lnTo>
                  <a:pt x="21600" y="0"/>
                </a:lnTo>
                <a:lnTo>
                  <a:pt x="21600" y="24545"/>
                </a:lnTo>
                <a:lnTo>
                  <a:pt x="0" y="24545"/>
                </a:lnTo>
                <a:close/>
              </a:path>
              <a:path fill="lightenLess" w="21600" h="245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45">
                <a:moveTo>
                  <a:pt x="21600" y="0"/>
                </a:moveTo>
                <a:lnTo>
                  <a:pt x="21600" y="24545"/>
                </a:lnTo>
                <a:lnTo>
                  <a:pt x="20200" y="23145"/>
                </a:lnTo>
                <a:lnTo>
                  <a:pt x="20200" y="1400"/>
                </a:lnTo>
                <a:close/>
              </a:path>
              <a:path fill="darkenLess" w="21600" h="24545">
                <a:moveTo>
                  <a:pt x="21600" y="24545"/>
                </a:moveTo>
                <a:lnTo>
                  <a:pt x="0" y="24545"/>
                </a:lnTo>
                <a:lnTo>
                  <a:pt x="1400" y="23145"/>
                </a:lnTo>
                <a:lnTo>
                  <a:pt x="20200" y="23145"/>
                </a:lnTo>
                <a:close/>
              </a:path>
              <a:path fill="lighten" w="21600" h="24545">
                <a:moveTo>
                  <a:pt x="0" y="245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45"/>
                </a:lnTo>
                <a:close/>
              </a:path>
              <a:path fill="darken" w="21600" h="24545">
                <a:moveTo>
                  <a:pt x="3794" y="8965"/>
                </a:moveTo>
                <a:lnTo>
                  <a:pt x="7301" y="8965"/>
                </a:lnTo>
                <a:lnTo>
                  <a:pt x="7301" y="14300"/>
                </a:lnTo>
                <a:cubicBezTo>
                  <a:pt x="7301" y="15223"/>
                  <a:pt x="8102" y="15954"/>
                  <a:pt x="9138" y="15954"/>
                </a:cubicBezTo>
                <a:lnTo>
                  <a:pt x="10800" y="15954"/>
                </a:lnTo>
                <a:cubicBezTo>
                  <a:pt x="11836" y="15954"/>
                  <a:pt x="12636" y="15223"/>
                  <a:pt x="12636" y="14300"/>
                </a:cubicBezTo>
                <a:lnTo>
                  <a:pt x="12636" y="8965"/>
                </a:lnTo>
                <a:lnTo>
                  <a:pt x="10800" y="8965"/>
                </a:lnTo>
                <a:lnTo>
                  <a:pt x="14308" y="5457"/>
                </a:lnTo>
                <a:lnTo>
                  <a:pt x="17981" y="8965"/>
                </a:lnTo>
                <a:lnTo>
                  <a:pt x="16144" y="8965"/>
                </a:lnTo>
                <a:lnTo>
                  <a:pt x="16144" y="14300"/>
                </a:lnTo>
                <a:cubicBezTo>
                  <a:pt x="16144" y="17068"/>
                  <a:pt x="13568" y="19627"/>
                  <a:pt x="10800" y="19627"/>
                </a:cubicBezTo>
                <a:lnTo>
                  <a:pt x="9138" y="19627"/>
                </a:lnTo>
                <a:cubicBezTo>
                  <a:pt x="6370" y="19627"/>
                  <a:pt x="3794" y="17068"/>
                  <a:pt x="3794" y="14300"/>
                </a:cubicBezTo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108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>
            <a:hlinkClick r:id="" action="ppaction://hlinkshowjump?jump=firstslide"/>
          </p:cNvPr>
          <p:cNvSpPr/>
          <p:nvPr/>
        </p:nvSpPr>
        <p:spPr>
          <a:xfrm>
            <a:off x="1447920" y="5562720"/>
            <a:ext cx="5257800" cy="7095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333399"/>
                </a:solidFill>
                <a:latin typeface="Arial"/>
              </a:rPr>
              <a:t>Alege altă înmulţire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138 x 4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4 x 8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1 3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>
            <a:hlinkClick r:id="" action="ppaction://hlinkshowjump?jump=nex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>
            <a:hlinkClick r:id="rId3" action="ppaction://hlinksldjump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>
            <a:hlinkClick r:id="rId4" action="ppaction://hlinksldjump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>
            <a:hlinkClick r:id="" action="ppaction://hlinkshowjump?jump=nex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"/>
          <p:cNvSpPr txBox="1"/>
          <p:nvPr/>
        </p:nvSpPr>
        <p:spPr>
          <a:xfrm rot="2154000">
            <a:off x="706320" y="1976400"/>
            <a:ext cx="525780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0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971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972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4 x 8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>
            <a:hlinkClick r:id="" action="ppaction://hlinkshowjump?jump=previousslide"/>
          </p:cNvPr>
          <p:cNvSpPr/>
          <p:nvPr/>
        </p:nvSpPr>
        <p:spPr>
          <a:xfrm>
            <a:off x="6858000" y="3886200"/>
            <a:ext cx="1828800" cy="198108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080"/>
              <a:gd name="textAreaBottom" fmla="*/ 1862640 h 1981080"/>
            </a:gdLst>
            <a:ahLst/>
            <a:rect l="textAreaLeft" t="textAreaTop" r="textAreaRight" b="textAreaBottom"/>
            <a:pathLst>
              <a:path w="21600" h="23398">
                <a:moveTo>
                  <a:pt x="0" y="0"/>
                </a:moveTo>
                <a:lnTo>
                  <a:pt x="21600" y="0"/>
                </a:lnTo>
                <a:lnTo>
                  <a:pt x="21600" y="23398"/>
                </a:lnTo>
                <a:lnTo>
                  <a:pt x="0" y="23398"/>
                </a:lnTo>
                <a:close/>
              </a:path>
              <a:path fill="lightenLess" w="21600" h="23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8">
                <a:moveTo>
                  <a:pt x="21600" y="0"/>
                </a:moveTo>
                <a:lnTo>
                  <a:pt x="21600" y="23398"/>
                </a:lnTo>
                <a:lnTo>
                  <a:pt x="20200" y="21998"/>
                </a:lnTo>
                <a:lnTo>
                  <a:pt x="20200" y="1400"/>
                </a:lnTo>
                <a:close/>
              </a:path>
              <a:path fill="darkenLess" w="21600" h="23398">
                <a:moveTo>
                  <a:pt x="21600" y="23398"/>
                </a:moveTo>
                <a:lnTo>
                  <a:pt x="0" y="23398"/>
                </a:lnTo>
                <a:lnTo>
                  <a:pt x="1400" y="21998"/>
                </a:lnTo>
                <a:lnTo>
                  <a:pt x="20200" y="21998"/>
                </a:lnTo>
                <a:close/>
              </a:path>
              <a:path fill="lighten" w="21600" h="23398">
                <a:moveTo>
                  <a:pt x="0" y="23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8"/>
                </a:lnTo>
                <a:close/>
              </a:path>
              <a:path fill="darken" w="21600" h="23398">
                <a:moveTo>
                  <a:pt x="3794" y="8392"/>
                </a:moveTo>
                <a:lnTo>
                  <a:pt x="7301" y="8392"/>
                </a:lnTo>
                <a:lnTo>
                  <a:pt x="7301" y="13727"/>
                </a:lnTo>
                <a:cubicBezTo>
                  <a:pt x="7301" y="14650"/>
                  <a:pt x="8102" y="15381"/>
                  <a:pt x="9138" y="15381"/>
                </a:cubicBezTo>
                <a:lnTo>
                  <a:pt x="10800" y="15381"/>
                </a:lnTo>
                <a:cubicBezTo>
                  <a:pt x="11836" y="15381"/>
                  <a:pt x="12636" y="14650"/>
                  <a:pt x="12636" y="13727"/>
                </a:cubicBezTo>
                <a:lnTo>
                  <a:pt x="12636" y="8392"/>
                </a:lnTo>
                <a:lnTo>
                  <a:pt x="10800" y="8392"/>
                </a:lnTo>
                <a:lnTo>
                  <a:pt x="14308" y="4884"/>
                </a:lnTo>
                <a:lnTo>
                  <a:pt x="17981" y="8392"/>
                </a:lnTo>
                <a:lnTo>
                  <a:pt x="16144" y="8392"/>
                </a:lnTo>
                <a:lnTo>
                  <a:pt x="16144" y="13727"/>
                </a:lnTo>
                <a:cubicBezTo>
                  <a:pt x="16144" y="16495"/>
                  <a:pt x="13568" y="19054"/>
                  <a:pt x="10800" y="19054"/>
                </a:cubicBezTo>
                <a:lnTo>
                  <a:pt x="9138" y="19054"/>
                </a:lnTo>
                <a:cubicBezTo>
                  <a:pt x="6370" y="19054"/>
                  <a:pt x="3794" y="16495"/>
                  <a:pt x="3794" y="13727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914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138 x 4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4 x 3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1 3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>
            <a:hlinkClick r:id="rId3" action="ppaction://hlinksldjump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04920" y="4038480"/>
            <a:ext cx="2666880" cy="25909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scriem la unităţ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adună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la z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 txBox="1"/>
          <p:nvPr/>
        </p:nvSpPr>
        <p:spPr>
          <a:xfrm rot="2154000">
            <a:off x="706320" y="1976400"/>
            <a:ext cx="525780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5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08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087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4 x 3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>
            <a:hlinkClick r:id="" action="ppaction://hlinkshowjump?jump=previousslide"/>
          </p:cNvPr>
          <p:cNvSpPr/>
          <p:nvPr/>
        </p:nvSpPr>
        <p:spPr>
          <a:xfrm>
            <a:off x="6858000" y="3886200"/>
            <a:ext cx="1828800" cy="198108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080"/>
              <a:gd name="textAreaBottom" fmla="*/ 1862640 h 1981080"/>
            </a:gdLst>
            <a:ahLst/>
            <a:rect l="textAreaLeft" t="textAreaTop" r="textAreaRight" b="textAreaBottom"/>
            <a:pathLst>
              <a:path w="21600" h="23398">
                <a:moveTo>
                  <a:pt x="0" y="0"/>
                </a:moveTo>
                <a:lnTo>
                  <a:pt x="21600" y="0"/>
                </a:lnTo>
                <a:lnTo>
                  <a:pt x="21600" y="23398"/>
                </a:lnTo>
                <a:lnTo>
                  <a:pt x="0" y="23398"/>
                </a:lnTo>
                <a:close/>
              </a:path>
              <a:path fill="lightenLess" w="21600" h="23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8">
                <a:moveTo>
                  <a:pt x="21600" y="0"/>
                </a:moveTo>
                <a:lnTo>
                  <a:pt x="21600" y="23398"/>
                </a:lnTo>
                <a:lnTo>
                  <a:pt x="20200" y="21998"/>
                </a:lnTo>
                <a:lnTo>
                  <a:pt x="20200" y="1400"/>
                </a:lnTo>
                <a:close/>
              </a:path>
              <a:path fill="darkenLess" w="21600" h="23398">
                <a:moveTo>
                  <a:pt x="21600" y="23398"/>
                </a:moveTo>
                <a:lnTo>
                  <a:pt x="0" y="23398"/>
                </a:lnTo>
                <a:lnTo>
                  <a:pt x="1400" y="21998"/>
                </a:lnTo>
                <a:lnTo>
                  <a:pt x="20200" y="21998"/>
                </a:lnTo>
                <a:close/>
              </a:path>
              <a:path fill="lighten" w="21600" h="23398">
                <a:moveTo>
                  <a:pt x="0" y="23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8"/>
                </a:lnTo>
                <a:close/>
              </a:path>
              <a:path fill="darken" w="21600" h="23398">
                <a:moveTo>
                  <a:pt x="3794" y="8392"/>
                </a:moveTo>
                <a:lnTo>
                  <a:pt x="7301" y="8392"/>
                </a:lnTo>
                <a:lnTo>
                  <a:pt x="7301" y="13727"/>
                </a:lnTo>
                <a:cubicBezTo>
                  <a:pt x="7301" y="14650"/>
                  <a:pt x="8102" y="15381"/>
                  <a:pt x="9138" y="15381"/>
                </a:cubicBezTo>
                <a:lnTo>
                  <a:pt x="10800" y="15381"/>
                </a:lnTo>
                <a:cubicBezTo>
                  <a:pt x="11836" y="15381"/>
                  <a:pt x="12636" y="14650"/>
                  <a:pt x="12636" y="13727"/>
                </a:cubicBezTo>
                <a:lnTo>
                  <a:pt x="12636" y="8392"/>
                </a:lnTo>
                <a:lnTo>
                  <a:pt x="10800" y="8392"/>
                </a:lnTo>
                <a:lnTo>
                  <a:pt x="14308" y="4884"/>
                </a:lnTo>
                <a:lnTo>
                  <a:pt x="17981" y="8392"/>
                </a:lnTo>
                <a:lnTo>
                  <a:pt x="16144" y="8392"/>
                </a:lnTo>
                <a:lnTo>
                  <a:pt x="16144" y="13727"/>
                </a:lnTo>
                <a:cubicBezTo>
                  <a:pt x="16144" y="16495"/>
                  <a:pt x="13568" y="19054"/>
                  <a:pt x="10800" y="19054"/>
                </a:cubicBezTo>
                <a:lnTo>
                  <a:pt x="9138" y="19054"/>
                </a:lnTo>
                <a:cubicBezTo>
                  <a:pt x="6370" y="19054"/>
                  <a:pt x="3794" y="16495"/>
                  <a:pt x="3794" y="13727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124 x 6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6 x 4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1 2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914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138 x 4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4 x 1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1 3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>
            <a:hlinkClick r:id="rId3" action="ppaction://hlinksldjump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>
            <a:hlinkClick r:id="rId4" action="ppaction://hlinksldjump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04920" y="4038480"/>
            <a:ext cx="2666880" cy="25909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12 + 3= 15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scriem la zec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adună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la s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06668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 txBox="1"/>
          <p:nvPr/>
        </p:nvSpPr>
        <p:spPr>
          <a:xfrm rot="2154000">
            <a:off x="706320" y="1976400"/>
            <a:ext cx="525780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01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202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203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4 x 1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>
            <a:hlinkClick r:id="" action="ppaction://hlinkshowjump?jump=previousslide"/>
          </p:cNvPr>
          <p:cNvSpPr/>
          <p:nvPr/>
        </p:nvSpPr>
        <p:spPr>
          <a:xfrm>
            <a:off x="6858000" y="3886200"/>
            <a:ext cx="1828800" cy="198108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080"/>
              <a:gd name="textAreaBottom" fmla="*/ 1862640 h 1981080"/>
            </a:gdLst>
            <a:ahLst/>
            <a:rect l="textAreaLeft" t="textAreaTop" r="textAreaRight" b="textAreaBottom"/>
            <a:pathLst>
              <a:path w="21600" h="23398">
                <a:moveTo>
                  <a:pt x="0" y="0"/>
                </a:moveTo>
                <a:lnTo>
                  <a:pt x="21600" y="0"/>
                </a:lnTo>
                <a:lnTo>
                  <a:pt x="21600" y="23398"/>
                </a:lnTo>
                <a:lnTo>
                  <a:pt x="0" y="23398"/>
                </a:lnTo>
                <a:close/>
              </a:path>
              <a:path fill="lightenLess" w="21600" h="23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8">
                <a:moveTo>
                  <a:pt x="21600" y="0"/>
                </a:moveTo>
                <a:lnTo>
                  <a:pt x="21600" y="23398"/>
                </a:lnTo>
                <a:lnTo>
                  <a:pt x="20200" y="21998"/>
                </a:lnTo>
                <a:lnTo>
                  <a:pt x="20200" y="1400"/>
                </a:lnTo>
                <a:close/>
              </a:path>
              <a:path fill="darkenLess" w="21600" h="23398">
                <a:moveTo>
                  <a:pt x="21600" y="23398"/>
                </a:moveTo>
                <a:lnTo>
                  <a:pt x="0" y="23398"/>
                </a:lnTo>
                <a:lnTo>
                  <a:pt x="1400" y="21998"/>
                </a:lnTo>
                <a:lnTo>
                  <a:pt x="20200" y="21998"/>
                </a:lnTo>
                <a:close/>
              </a:path>
              <a:path fill="lighten" w="21600" h="23398">
                <a:moveTo>
                  <a:pt x="0" y="23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8"/>
                </a:lnTo>
                <a:close/>
              </a:path>
              <a:path fill="darken" w="21600" h="23398">
                <a:moveTo>
                  <a:pt x="3794" y="8392"/>
                </a:moveTo>
                <a:lnTo>
                  <a:pt x="7301" y="8392"/>
                </a:lnTo>
                <a:lnTo>
                  <a:pt x="7301" y="13727"/>
                </a:lnTo>
                <a:cubicBezTo>
                  <a:pt x="7301" y="14650"/>
                  <a:pt x="8102" y="15381"/>
                  <a:pt x="9138" y="15381"/>
                </a:cubicBezTo>
                <a:lnTo>
                  <a:pt x="10800" y="15381"/>
                </a:lnTo>
                <a:cubicBezTo>
                  <a:pt x="11836" y="15381"/>
                  <a:pt x="12636" y="14650"/>
                  <a:pt x="12636" y="13727"/>
                </a:cubicBezTo>
                <a:lnTo>
                  <a:pt x="12636" y="8392"/>
                </a:lnTo>
                <a:lnTo>
                  <a:pt x="10800" y="8392"/>
                </a:lnTo>
                <a:lnTo>
                  <a:pt x="14308" y="4884"/>
                </a:lnTo>
                <a:lnTo>
                  <a:pt x="17981" y="8392"/>
                </a:lnTo>
                <a:lnTo>
                  <a:pt x="16144" y="8392"/>
                </a:lnTo>
                <a:lnTo>
                  <a:pt x="16144" y="13727"/>
                </a:lnTo>
                <a:cubicBezTo>
                  <a:pt x="16144" y="16495"/>
                  <a:pt x="13568" y="19054"/>
                  <a:pt x="10800" y="19054"/>
                </a:cubicBezTo>
                <a:lnTo>
                  <a:pt x="9138" y="19054"/>
                </a:lnTo>
                <a:cubicBezTo>
                  <a:pt x="6370" y="19054"/>
                  <a:pt x="3794" y="16495"/>
                  <a:pt x="3794" y="13727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914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138 x 4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SZ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1 3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>
            <a:hlinkClick r:id="rId3" action="ppaction://hlinksldjump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>
            <a:hlinkClick r:id="rId4" action="ppaction://hlinksldjump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380880" y="4343400"/>
            <a:ext cx="2667240" cy="1905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 + 1 = 5          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scriem la su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06668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4114800" y="380880"/>
            <a:ext cx="4648320" cy="9144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Verifică 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229600" y="685800"/>
            <a:ext cx="380880" cy="32076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1317" name=""/>
          <p:cNvSpPr/>
          <p:nvPr/>
        </p:nvSpPr>
        <p:spPr>
          <a:xfrm>
            <a:off x="45720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">
            <a:hlinkClick r:id="" action="ppaction://hlinkshowjump?jump=firstslide"/>
          </p:cNvPr>
          <p:cNvSpPr/>
          <p:nvPr/>
        </p:nvSpPr>
        <p:spPr>
          <a:xfrm>
            <a:off x="304920" y="28195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00"/>
                </a:solidFill>
                <a:latin typeface="Arial"/>
              </a:rPr>
              <a:t>138 x 4 = 55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2133720" cy="1981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320" name=""/>
          <p:cNvSpPr txBox="1"/>
          <p:nvPr/>
        </p:nvSpPr>
        <p:spPr>
          <a:xfrm rot="21342000">
            <a:off x="3808440" y="1126800"/>
            <a:ext cx="4191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381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658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 i   r e u ş i t   !</a:t>
            </a:r>
            <a:endParaRPr b="1" i="1" lang="en-US" sz="4800" spc="1" strike="noStrike">
              <a:ln w="381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658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1" name="">
            <a:hlinkClick r:id="" action="ppaction://hlinkshowjump?jump=firstslide"/>
          </p:cNvPr>
          <p:cNvSpPr/>
          <p:nvPr/>
        </p:nvSpPr>
        <p:spPr>
          <a:xfrm>
            <a:off x="6858000" y="4343400"/>
            <a:ext cx="1676520" cy="1905120"/>
          </a:xfrm>
          <a:custGeom>
            <a:avLst/>
            <a:gdLst>
              <a:gd name="textAreaLeft" fmla="*/ 108360 w 1676520"/>
              <a:gd name="textAreaRight" fmla="*/ 1568160 w 1676520"/>
              <a:gd name="textAreaTop" fmla="*/ 108360 h 1905120"/>
              <a:gd name="textAreaBottom" fmla="*/ 1796760 h 1905120"/>
            </a:gdLst>
            <a:ahLst/>
            <a:rect l="textAreaLeft" t="textAreaTop" r="textAreaRight" b="textAreaBottom"/>
            <a:pathLst>
              <a:path w="21600" h="24545">
                <a:moveTo>
                  <a:pt x="0" y="0"/>
                </a:moveTo>
                <a:lnTo>
                  <a:pt x="21600" y="0"/>
                </a:lnTo>
                <a:lnTo>
                  <a:pt x="21600" y="24545"/>
                </a:lnTo>
                <a:lnTo>
                  <a:pt x="0" y="24545"/>
                </a:lnTo>
                <a:close/>
              </a:path>
              <a:path fill="lightenLess" w="21600" h="245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45">
                <a:moveTo>
                  <a:pt x="21600" y="0"/>
                </a:moveTo>
                <a:lnTo>
                  <a:pt x="21600" y="24545"/>
                </a:lnTo>
                <a:lnTo>
                  <a:pt x="20200" y="23145"/>
                </a:lnTo>
                <a:lnTo>
                  <a:pt x="20200" y="1400"/>
                </a:lnTo>
                <a:close/>
              </a:path>
              <a:path fill="darkenLess" w="21600" h="24545">
                <a:moveTo>
                  <a:pt x="21600" y="24545"/>
                </a:moveTo>
                <a:lnTo>
                  <a:pt x="0" y="24545"/>
                </a:lnTo>
                <a:lnTo>
                  <a:pt x="1400" y="23145"/>
                </a:lnTo>
                <a:lnTo>
                  <a:pt x="20200" y="23145"/>
                </a:lnTo>
                <a:close/>
              </a:path>
              <a:path fill="lighten" w="21600" h="24545">
                <a:moveTo>
                  <a:pt x="0" y="245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45"/>
                </a:lnTo>
                <a:close/>
              </a:path>
              <a:path fill="darken" w="21600" h="24545">
                <a:moveTo>
                  <a:pt x="3794" y="8965"/>
                </a:moveTo>
                <a:lnTo>
                  <a:pt x="7301" y="8965"/>
                </a:lnTo>
                <a:lnTo>
                  <a:pt x="7301" y="14300"/>
                </a:lnTo>
                <a:cubicBezTo>
                  <a:pt x="7301" y="15223"/>
                  <a:pt x="8102" y="15954"/>
                  <a:pt x="9138" y="15954"/>
                </a:cubicBezTo>
                <a:lnTo>
                  <a:pt x="10800" y="15954"/>
                </a:lnTo>
                <a:cubicBezTo>
                  <a:pt x="11836" y="15954"/>
                  <a:pt x="12636" y="15223"/>
                  <a:pt x="12636" y="14300"/>
                </a:cubicBezTo>
                <a:lnTo>
                  <a:pt x="12636" y="8965"/>
                </a:lnTo>
                <a:lnTo>
                  <a:pt x="10800" y="8965"/>
                </a:lnTo>
                <a:lnTo>
                  <a:pt x="14308" y="5457"/>
                </a:lnTo>
                <a:lnTo>
                  <a:pt x="17981" y="8965"/>
                </a:lnTo>
                <a:lnTo>
                  <a:pt x="16144" y="8965"/>
                </a:lnTo>
                <a:lnTo>
                  <a:pt x="16144" y="14300"/>
                </a:lnTo>
                <a:cubicBezTo>
                  <a:pt x="16144" y="17068"/>
                  <a:pt x="13568" y="19627"/>
                  <a:pt x="10800" y="19627"/>
                </a:cubicBezTo>
                <a:lnTo>
                  <a:pt x="9138" y="19627"/>
                </a:lnTo>
                <a:cubicBezTo>
                  <a:pt x="6370" y="19627"/>
                  <a:pt x="3794" y="17068"/>
                  <a:pt x="3794" y="14300"/>
                </a:cubicBezTo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108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>
            <a:hlinkClick r:id="" action="ppaction://hlinkshowjump?jump=firstslide"/>
          </p:cNvPr>
          <p:cNvSpPr/>
          <p:nvPr/>
        </p:nvSpPr>
        <p:spPr>
          <a:xfrm>
            <a:off x="1447920" y="5562720"/>
            <a:ext cx="5257800" cy="7095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333399"/>
                </a:solidFill>
                <a:latin typeface="Arial"/>
              </a:rPr>
              <a:t>Alege altă înmulţire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37 x 9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9 x 7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3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>
            <a:hlinkClick r:id="" action="ppaction://hlinkshowjump?jump=nex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>
            <a:hlinkClick r:id="rId3" action="ppaction://hlinksldjump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>
            <a:hlinkClick r:id="rId4" action="ppaction://hlinksldjump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>
            <a:hlinkClick r:id="" action="ppaction://hlinkshowjump?jump=nex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>
            <a:hlinkClick r:id="rId5" action="ppaction://hlinksldjump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 txBox="1"/>
          <p:nvPr/>
        </p:nvSpPr>
        <p:spPr>
          <a:xfrm rot="2154000">
            <a:off x="706320" y="1976400"/>
            <a:ext cx="525780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31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432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433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9 x 7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>
            <a:hlinkClick r:id="" action="ppaction://hlinkshowjump?jump=previousslide"/>
          </p:cNvPr>
          <p:cNvSpPr/>
          <p:nvPr/>
        </p:nvSpPr>
        <p:spPr>
          <a:xfrm>
            <a:off x="6858000" y="3886200"/>
            <a:ext cx="1828800" cy="198108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080"/>
              <a:gd name="textAreaBottom" fmla="*/ 1862640 h 1981080"/>
            </a:gdLst>
            <a:ahLst/>
            <a:rect l="textAreaLeft" t="textAreaTop" r="textAreaRight" b="textAreaBottom"/>
            <a:pathLst>
              <a:path w="21600" h="23398">
                <a:moveTo>
                  <a:pt x="0" y="0"/>
                </a:moveTo>
                <a:lnTo>
                  <a:pt x="21600" y="0"/>
                </a:lnTo>
                <a:lnTo>
                  <a:pt x="21600" y="23398"/>
                </a:lnTo>
                <a:lnTo>
                  <a:pt x="0" y="23398"/>
                </a:lnTo>
                <a:close/>
              </a:path>
              <a:path fill="lightenLess" w="21600" h="23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8">
                <a:moveTo>
                  <a:pt x="21600" y="0"/>
                </a:moveTo>
                <a:lnTo>
                  <a:pt x="21600" y="23398"/>
                </a:lnTo>
                <a:lnTo>
                  <a:pt x="20200" y="21998"/>
                </a:lnTo>
                <a:lnTo>
                  <a:pt x="20200" y="1400"/>
                </a:lnTo>
                <a:close/>
              </a:path>
              <a:path fill="darkenLess" w="21600" h="23398">
                <a:moveTo>
                  <a:pt x="21600" y="23398"/>
                </a:moveTo>
                <a:lnTo>
                  <a:pt x="0" y="23398"/>
                </a:lnTo>
                <a:lnTo>
                  <a:pt x="1400" y="21998"/>
                </a:lnTo>
                <a:lnTo>
                  <a:pt x="20200" y="21998"/>
                </a:lnTo>
                <a:close/>
              </a:path>
              <a:path fill="lighten" w="21600" h="23398">
                <a:moveTo>
                  <a:pt x="0" y="23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8"/>
                </a:lnTo>
                <a:close/>
              </a:path>
              <a:path fill="darken" w="21600" h="23398">
                <a:moveTo>
                  <a:pt x="3794" y="8392"/>
                </a:moveTo>
                <a:lnTo>
                  <a:pt x="7301" y="8392"/>
                </a:lnTo>
                <a:lnTo>
                  <a:pt x="7301" y="13727"/>
                </a:lnTo>
                <a:cubicBezTo>
                  <a:pt x="7301" y="14650"/>
                  <a:pt x="8102" y="15381"/>
                  <a:pt x="9138" y="15381"/>
                </a:cubicBezTo>
                <a:lnTo>
                  <a:pt x="10800" y="15381"/>
                </a:lnTo>
                <a:cubicBezTo>
                  <a:pt x="11836" y="15381"/>
                  <a:pt x="12636" y="14650"/>
                  <a:pt x="12636" y="13727"/>
                </a:cubicBezTo>
                <a:lnTo>
                  <a:pt x="12636" y="8392"/>
                </a:lnTo>
                <a:lnTo>
                  <a:pt x="10800" y="8392"/>
                </a:lnTo>
                <a:lnTo>
                  <a:pt x="14308" y="4884"/>
                </a:lnTo>
                <a:lnTo>
                  <a:pt x="17981" y="8392"/>
                </a:lnTo>
                <a:lnTo>
                  <a:pt x="16144" y="8392"/>
                </a:lnTo>
                <a:lnTo>
                  <a:pt x="16144" y="13727"/>
                </a:lnTo>
                <a:cubicBezTo>
                  <a:pt x="16144" y="16495"/>
                  <a:pt x="13568" y="19054"/>
                  <a:pt x="10800" y="19054"/>
                </a:cubicBezTo>
                <a:lnTo>
                  <a:pt x="9138" y="19054"/>
                </a:lnTo>
                <a:cubicBezTo>
                  <a:pt x="6370" y="19054"/>
                  <a:pt x="3794" y="16495"/>
                  <a:pt x="3794" y="13727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914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37 x 9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9 x 3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3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>
            <a:hlinkClick r:id="rId3" action="ppaction://hlinksldjump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>
            <a:hlinkClick r:id="rId4" action="ppaction://hlinksldjump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>
            <a:hlinkClick r:id="rId5" action="ppaction://hlinksldjump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304920" y="4038480"/>
            <a:ext cx="2666880" cy="25909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63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scriem la unităţ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adună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la z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"/>
          <p:cNvSpPr txBox="1"/>
          <p:nvPr/>
        </p:nvSpPr>
        <p:spPr>
          <a:xfrm rot="2154000">
            <a:off x="706320" y="1976400"/>
            <a:ext cx="525780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6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547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548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9 x 3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>
            <a:hlinkClick r:id="" action="ppaction://hlinkshowjump?jump=previousslide"/>
          </p:cNvPr>
          <p:cNvSpPr/>
          <p:nvPr/>
        </p:nvSpPr>
        <p:spPr>
          <a:xfrm>
            <a:off x="6858000" y="3886200"/>
            <a:ext cx="1828800" cy="198108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080"/>
              <a:gd name="textAreaBottom" fmla="*/ 1862640 h 1981080"/>
            </a:gdLst>
            <a:ahLst/>
            <a:rect l="textAreaLeft" t="textAreaTop" r="textAreaRight" b="textAreaBottom"/>
            <a:pathLst>
              <a:path w="21600" h="23398">
                <a:moveTo>
                  <a:pt x="0" y="0"/>
                </a:moveTo>
                <a:lnTo>
                  <a:pt x="21600" y="0"/>
                </a:lnTo>
                <a:lnTo>
                  <a:pt x="21600" y="23398"/>
                </a:lnTo>
                <a:lnTo>
                  <a:pt x="0" y="23398"/>
                </a:lnTo>
                <a:close/>
              </a:path>
              <a:path fill="lightenLess" w="21600" h="23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8">
                <a:moveTo>
                  <a:pt x="21600" y="0"/>
                </a:moveTo>
                <a:lnTo>
                  <a:pt x="21600" y="23398"/>
                </a:lnTo>
                <a:lnTo>
                  <a:pt x="20200" y="21998"/>
                </a:lnTo>
                <a:lnTo>
                  <a:pt x="20200" y="1400"/>
                </a:lnTo>
                <a:close/>
              </a:path>
              <a:path fill="darkenLess" w="21600" h="23398">
                <a:moveTo>
                  <a:pt x="21600" y="23398"/>
                </a:moveTo>
                <a:lnTo>
                  <a:pt x="0" y="23398"/>
                </a:lnTo>
                <a:lnTo>
                  <a:pt x="1400" y="21998"/>
                </a:lnTo>
                <a:lnTo>
                  <a:pt x="20200" y="21998"/>
                </a:lnTo>
                <a:close/>
              </a:path>
              <a:path fill="lighten" w="21600" h="23398">
                <a:moveTo>
                  <a:pt x="0" y="23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8"/>
                </a:lnTo>
                <a:close/>
              </a:path>
              <a:path fill="darken" w="21600" h="23398">
                <a:moveTo>
                  <a:pt x="3794" y="8392"/>
                </a:moveTo>
                <a:lnTo>
                  <a:pt x="7301" y="8392"/>
                </a:lnTo>
                <a:lnTo>
                  <a:pt x="7301" y="13727"/>
                </a:lnTo>
                <a:cubicBezTo>
                  <a:pt x="7301" y="14650"/>
                  <a:pt x="8102" y="15381"/>
                  <a:pt x="9138" y="15381"/>
                </a:cubicBezTo>
                <a:lnTo>
                  <a:pt x="10800" y="15381"/>
                </a:lnTo>
                <a:cubicBezTo>
                  <a:pt x="11836" y="15381"/>
                  <a:pt x="12636" y="14650"/>
                  <a:pt x="12636" y="13727"/>
                </a:cubicBezTo>
                <a:lnTo>
                  <a:pt x="12636" y="8392"/>
                </a:lnTo>
                <a:lnTo>
                  <a:pt x="10800" y="8392"/>
                </a:lnTo>
                <a:lnTo>
                  <a:pt x="14308" y="4884"/>
                </a:lnTo>
                <a:lnTo>
                  <a:pt x="17981" y="8392"/>
                </a:lnTo>
                <a:lnTo>
                  <a:pt x="16144" y="8392"/>
                </a:lnTo>
                <a:lnTo>
                  <a:pt x="16144" y="13727"/>
                </a:lnTo>
                <a:cubicBezTo>
                  <a:pt x="16144" y="16495"/>
                  <a:pt x="13568" y="19054"/>
                  <a:pt x="10800" y="19054"/>
                </a:cubicBezTo>
                <a:lnTo>
                  <a:pt x="9138" y="19054"/>
                </a:lnTo>
                <a:cubicBezTo>
                  <a:pt x="6370" y="19054"/>
                  <a:pt x="3794" y="16495"/>
                  <a:pt x="3794" y="13727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914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37 x 9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3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>
            <a:hlinkClick r:id="rId3" action="ppaction://hlinksldjump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>
            <a:hlinkClick r:id="rId4" action="ppaction://hlinksldjump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04920" y="4038480"/>
            <a:ext cx="2666880" cy="25909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27 + 6 = 33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scriem la zec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notăm           la s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106668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45720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4114800" y="380880"/>
            <a:ext cx="4648320" cy="914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 </a:t>
            </a:r>
            <a:r>
              <a:rPr b="0" lang="ro-RO" sz="6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Verifică 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2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229600" y="685800"/>
            <a:ext cx="380880" cy="32076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">
            <a:hlinkClick r:id="" action="ppaction://hlinkshowjump?jump=firstslide"/>
          </p:cNvPr>
          <p:cNvSpPr/>
          <p:nvPr/>
        </p:nvSpPr>
        <p:spPr>
          <a:xfrm>
            <a:off x="304920" y="28195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00"/>
                </a:solidFill>
                <a:latin typeface="Arial"/>
              </a:rPr>
              <a:t>37 x 9 = 33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4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2133720" cy="1981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1665" name=""/>
          <p:cNvSpPr txBox="1"/>
          <p:nvPr/>
        </p:nvSpPr>
        <p:spPr>
          <a:xfrm rot="21342000">
            <a:off x="3808440" y="1126800"/>
            <a:ext cx="4191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381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658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 i   r e u ş i t   !</a:t>
            </a:r>
            <a:endParaRPr b="1" i="1" lang="en-US" sz="4800" spc="1" strike="noStrike">
              <a:ln w="381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658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6" name="">
            <a:hlinkClick r:id="" action="ppaction://hlinkshowjump?jump=firstslide"/>
          </p:cNvPr>
          <p:cNvSpPr/>
          <p:nvPr/>
        </p:nvSpPr>
        <p:spPr>
          <a:xfrm>
            <a:off x="6858000" y="4343400"/>
            <a:ext cx="1676520" cy="1905120"/>
          </a:xfrm>
          <a:custGeom>
            <a:avLst/>
            <a:gdLst>
              <a:gd name="textAreaLeft" fmla="*/ 108360 w 1676520"/>
              <a:gd name="textAreaRight" fmla="*/ 1568160 w 1676520"/>
              <a:gd name="textAreaTop" fmla="*/ 108360 h 1905120"/>
              <a:gd name="textAreaBottom" fmla="*/ 1796760 h 1905120"/>
            </a:gdLst>
            <a:ahLst/>
            <a:rect l="textAreaLeft" t="textAreaTop" r="textAreaRight" b="textAreaBottom"/>
            <a:pathLst>
              <a:path w="21600" h="24545">
                <a:moveTo>
                  <a:pt x="0" y="0"/>
                </a:moveTo>
                <a:lnTo>
                  <a:pt x="21600" y="0"/>
                </a:lnTo>
                <a:lnTo>
                  <a:pt x="21600" y="24545"/>
                </a:lnTo>
                <a:lnTo>
                  <a:pt x="0" y="24545"/>
                </a:lnTo>
                <a:close/>
              </a:path>
              <a:path fill="lightenLess" w="21600" h="245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45">
                <a:moveTo>
                  <a:pt x="21600" y="0"/>
                </a:moveTo>
                <a:lnTo>
                  <a:pt x="21600" y="24545"/>
                </a:lnTo>
                <a:lnTo>
                  <a:pt x="20200" y="23145"/>
                </a:lnTo>
                <a:lnTo>
                  <a:pt x="20200" y="1400"/>
                </a:lnTo>
                <a:close/>
              </a:path>
              <a:path fill="darkenLess" w="21600" h="24545">
                <a:moveTo>
                  <a:pt x="21600" y="24545"/>
                </a:moveTo>
                <a:lnTo>
                  <a:pt x="0" y="24545"/>
                </a:lnTo>
                <a:lnTo>
                  <a:pt x="1400" y="23145"/>
                </a:lnTo>
                <a:lnTo>
                  <a:pt x="20200" y="23145"/>
                </a:lnTo>
                <a:close/>
              </a:path>
              <a:path fill="lighten" w="21600" h="24545">
                <a:moveTo>
                  <a:pt x="0" y="245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45"/>
                </a:lnTo>
                <a:close/>
              </a:path>
              <a:path fill="darken" w="21600" h="24545">
                <a:moveTo>
                  <a:pt x="3794" y="8965"/>
                </a:moveTo>
                <a:lnTo>
                  <a:pt x="7301" y="8965"/>
                </a:lnTo>
                <a:lnTo>
                  <a:pt x="7301" y="14300"/>
                </a:lnTo>
                <a:cubicBezTo>
                  <a:pt x="7301" y="15223"/>
                  <a:pt x="8102" y="15954"/>
                  <a:pt x="9138" y="15954"/>
                </a:cubicBezTo>
                <a:lnTo>
                  <a:pt x="10800" y="15954"/>
                </a:lnTo>
                <a:cubicBezTo>
                  <a:pt x="11836" y="15954"/>
                  <a:pt x="12636" y="15223"/>
                  <a:pt x="12636" y="14300"/>
                </a:cubicBezTo>
                <a:lnTo>
                  <a:pt x="12636" y="8965"/>
                </a:lnTo>
                <a:lnTo>
                  <a:pt x="10800" y="8965"/>
                </a:lnTo>
                <a:lnTo>
                  <a:pt x="14308" y="5457"/>
                </a:lnTo>
                <a:lnTo>
                  <a:pt x="17981" y="8965"/>
                </a:lnTo>
                <a:lnTo>
                  <a:pt x="16144" y="8965"/>
                </a:lnTo>
                <a:lnTo>
                  <a:pt x="16144" y="14300"/>
                </a:lnTo>
                <a:cubicBezTo>
                  <a:pt x="16144" y="17068"/>
                  <a:pt x="13568" y="19627"/>
                  <a:pt x="10800" y="19627"/>
                </a:cubicBezTo>
                <a:lnTo>
                  <a:pt x="9138" y="19627"/>
                </a:lnTo>
                <a:cubicBezTo>
                  <a:pt x="6370" y="19627"/>
                  <a:pt x="3794" y="17068"/>
                  <a:pt x="3794" y="14300"/>
                </a:cubicBezTo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108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>
            <a:hlinkClick r:id="" action="ppaction://hlinkshowjump?jump=firstslide"/>
          </p:cNvPr>
          <p:cNvSpPr/>
          <p:nvPr/>
        </p:nvSpPr>
        <p:spPr>
          <a:xfrm>
            <a:off x="1447920" y="5562720"/>
            <a:ext cx="5257800" cy="7095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333399"/>
                </a:solidFill>
                <a:latin typeface="Arial"/>
              </a:rPr>
              <a:t>Alege altă înmulţire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 rot="2154000">
            <a:off x="330120" y="1971720"/>
            <a:ext cx="601992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65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6 x 4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6858000" y="3886200"/>
            <a:ext cx="1828800" cy="198108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080"/>
              <a:gd name="textAreaBottom" fmla="*/ 1862640 h 1981080"/>
            </a:gdLst>
            <a:ahLst/>
            <a:rect l="textAreaLeft" t="textAreaTop" r="textAreaRight" b="textAreaBottom"/>
            <a:pathLst>
              <a:path w="21600" h="23398">
                <a:moveTo>
                  <a:pt x="0" y="0"/>
                </a:moveTo>
                <a:lnTo>
                  <a:pt x="21600" y="0"/>
                </a:lnTo>
                <a:lnTo>
                  <a:pt x="21600" y="23398"/>
                </a:lnTo>
                <a:lnTo>
                  <a:pt x="0" y="23398"/>
                </a:lnTo>
                <a:close/>
              </a:path>
              <a:path fill="lightenLess" w="21600" h="23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8">
                <a:moveTo>
                  <a:pt x="21600" y="0"/>
                </a:moveTo>
                <a:lnTo>
                  <a:pt x="21600" y="23398"/>
                </a:lnTo>
                <a:lnTo>
                  <a:pt x="20200" y="21998"/>
                </a:lnTo>
                <a:lnTo>
                  <a:pt x="20200" y="1400"/>
                </a:lnTo>
                <a:close/>
              </a:path>
              <a:path fill="darkenLess" w="21600" h="23398">
                <a:moveTo>
                  <a:pt x="21600" y="23398"/>
                </a:moveTo>
                <a:lnTo>
                  <a:pt x="0" y="23398"/>
                </a:lnTo>
                <a:lnTo>
                  <a:pt x="1400" y="21998"/>
                </a:lnTo>
                <a:lnTo>
                  <a:pt x="20200" y="21998"/>
                </a:lnTo>
                <a:close/>
              </a:path>
              <a:path fill="lighten" w="21600" h="23398">
                <a:moveTo>
                  <a:pt x="0" y="23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8"/>
                </a:lnTo>
                <a:close/>
              </a:path>
              <a:path fill="darken" w="21600" h="23398">
                <a:moveTo>
                  <a:pt x="3794" y="8392"/>
                </a:moveTo>
                <a:lnTo>
                  <a:pt x="7301" y="8392"/>
                </a:lnTo>
                <a:lnTo>
                  <a:pt x="7301" y="13727"/>
                </a:lnTo>
                <a:cubicBezTo>
                  <a:pt x="7301" y="14650"/>
                  <a:pt x="8102" y="15381"/>
                  <a:pt x="9138" y="15381"/>
                </a:cubicBezTo>
                <a:lnTo>
                  <a:pt x="10800" y="15381"/>
                </a:lnTo>
                <a:cubicBezTo>
                  <a:pt x="11836" y="15381"/>
                  <a:pt x="12636" y="14650"/>
                  <a:pt x="12636" y="13727"/>
                </a:cubicBezTo>
                <a:lnTo>
                  <a:pt x="12636" y="8392"/>
                </a:lnTo>
                <a:lnTo>
                  <a:pt x="10800" y="8392"/>
                </a:lnTo>
                <a:lnTo>
                  <a:pt x="14308" y="4884"/>
                </a:lnTo>
                <a:lnTo>
                  <a:pt x="17981" y="8392"/>
                </a:lnTo>
                <a:lnTo>
                  <a:pt x="16144" y="8392"/>
                </a:lnTo>
                <a:lnTo>
                  <a:pt x="16144" y="13727"/>
                </a:lnTo>
                <a:cubicBezTo>
                  <a:pt x="16144" y="16495"/>
                  <a:pt x="13568" y="19054"/>
                  <a:pt x="10800" y="19054"/>
                </a:cubicBezTo>
                <a:lnTo>
                  <a:pt x="9138" y="19054"/>
                </a:lnTo>
                <a:cubicBezTo>
                  <a:pt x="6370" y="19054"/>
                  <a:pt x="3794" y="16495"/>
                  <a:pt x="3794" y="13727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86 x 7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7 x 6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8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>
            <a:hlinkClick r:id="" action="ppaction://hlinkshowjump?jump=nex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>
            <a:hlinkClick r:id="rId3" action="ppaction://hlinksldjump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>
            <a:hlinkClick r:id="rId4" action="ppaction://hlinksldjump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>
            <a:hlinkClick r:id="rId5" action="ppaction://hlinksldjump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"/>
          <p:cNvSpPr txBox="1"/>
          <p:nvPr/>
        </p:nvSpPr>
        <p:spPr>
          <a:xfrm rot="2154000">
            <a:off x="706320" y="1976400"/>
            <a:ext cx="525780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76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777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778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7 x 6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>
            <a:hlinkClick r:id="" action="ppaction://hlinkshowjump?jump=previousslide"/>
          </p:cNvPr>
          <p:cNvSpPr/>
          <p:nvPr/>
        </p:nvSpPr>
        <p:spPr>
          <a:xfrm>
            <a:off x="6858000" y="3886200"/>
            <a:ext cx="1828800" cy="198108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080"/>
              <a:gd name="textAreaBottom" fmla="*/ 1862640 h 1981080"/>
            </a:gdLst>
            <a:ahLst/>
            <a:rect l="textAreaLeft" t="textAreaTop" r="textAreaRight" b="textAreaBottom"/>
            <a:pathLst>
              <a:path w="21600" h="23398">
                <a:moveTo>
                  <a:pt x="0" y="0"/>
                </a:moveTo>
                <a:lnTo>
                  <a:pt x="21600" y="0"/>
                </a:lnTo>
                <a:lnTo>
                  <a:pt x="21600" y="23398"/>
                </a:lnTo>
                <a:lnTo>
                  <a:pt x="0" y="23398"/>
                </a:lnTo>
                <a:close/>
              </a:path>
              <a:path fill="lightenLess" w="21600" h="23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8">
                <a:moveTo>
                  <a:pt x="21600" y="0"/>
                </a:moveTo>
                <a:lnTo>
                  <a:pt x="21600" y="23398"/>
                </a:lnTo>
                <a:lnTo>
                  <a:pt x="20200" y="21998"/>
                </a:lnTo>
                <a:lnTo>
                  <a:pt x="20200" y="1400"/>
                </a:lnTo>
                <a:close/>
              </a:path>
              <a:path fill="darkenLess" w="21600" h="23398">
                <a:moveTo>
                  <a:pt x="21600" y="23398"/>
                </a:moveTo>
                <a:lnTo>
                  <a:pt x="0" y="23398"/>
                </a:lnTo>
                <a:lnTo>
                  <a:pt x="1400" y="21998"/>
                </a:lnTo>
                <a:lnTo>
                  <a:pt x="20200" y="21998"/>
                </a:lnTo>
                <a:close/>
              </a:path>
              <a:path fill="lighten" w="21600" h="23398">
                <a:moveTo>
                  <a:pt x="0" y="23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8"/>
                </a:lnTo>
                <a:close/>
              </a:path>
              <a:path fill="darken" w="21600" h="23398">
                <a:moveTo>
                  <a:pt x="3794" y="8392"/>
                </a:moveTo>
                <a:lnTo>
                  <a:pt x="7301" y="8392"/>
                </a:lnTo>
                <a:lnTo>
                  <a:pt x="7301" y="13727"/>
                </a:lnTo>
                <a:cubicBezTo>
                  <a:pt x="7301" y="14650"/>
                  <a:pt x="8102" y="15381"/>
                  <a:pt x="9138" y="15381"/>
                </a:cubicBezTo>
                <a:lnTo>
                  <a:pt x="10800" y="15381"/>
                </a:lnTo>
                <a:cubicBezTo>
                  <a:pt x="11836" y="15381"/>
                  <a:pt x="12636" y="14650"/>
                  <a:pt x="12636" y="13727"/>
                </a:cubicBezTo>
                <a:lnTo>
                  <a:pt x="12636" y="8392"/>
                </a:lnTo>
                <a:lnTo>
                  <a:pt x="10800" y="8392"/>
                </a:lnTo>
                <a:lnTo>
                  <a:pt x="14308" y="4884"/>
                </a:lnTo>
                <a:lnTo>
                  <a:pt x="17981" y="8392"/>
                </a:lnTo>
                <a:lnTo>
                  <a:pt x="16144" y="8392"/>
                </a:lnTo>
                <a:lnTo>
                  <a:pt x="16144" y="13727"/>
                </a:lnTo>
                <a:cubicBezTo>
                  <a:pt x="16144" y="16495"/>
                  <a:pt x="13568" y="19054"/>
                  <a:pt x="10800" y="19054"/>
                </a:cubicBezTo>
                <a:lnTo>
                  <a:pt x="9138" y="19054"/>
                </a:lnTo>
                <a:cubicBezTo>
                  <a:pt x="6370" y="19054"/>
                  <a:pt x="3794" y="16495"/>
                  <a:pt x="3794" y="13727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914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86 x 7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7 x 8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8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>
            <a:hlinkClick r:id="rId3" action="ppaction://hlinksldjump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>
            <a:hlinkClick r:id="rId4" action="ppaction://hlinksldjump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>
            <a:hlinkClick r:id="rId5" action="ppaction://hlinksldjump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304920" y="4038480"/>
            <a:ext cx="2666880" cy="25909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42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scriem la unităţ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adună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la z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"/>
          <p:cNvSpPr txBox="1"/>
          <p:nvPr/>
        </p:nvSpPr>
        <p:spPr>
          <a:xfrm rot="2154000">
            <a:off x="706320" y="1976400"/>
            <a:ext cx="525780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1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892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1893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7 x 8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>
            <a:hlinkClick r:id="" action="ppaction://hlinkshowjump?jump=previousslide"/>
          </p:cNvPr>
          <p:cNvSpPr/>
          <p:nvPr/>
        </p:nvSpPr>
        <p:spPr>
          <a:xfrm>
            <a:off x="6858000" y="3886200"/>
            <a:ext cx="1828800" cy="198108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080"/>
              <a:gd name="textAreaBottom" fmla="*/ 1862640 h 1981080"/>
            </a:gdLst>
            <a:ahLst/>
            <a:rect l="textAreaLeft" t="textAreaTop" r="textAreaRight" b="textAreaBottom"/>
            <a:pathLst>
              <a:path w="21600" h="23398">
                <a:moveTo>
                  <a:pt x="0" y="0"/>
                </a:moveTo>
                <a:lnTo>
                  <a:pt x="21600" y="0"/>
                </a:lnTo>
                <a:lnTo>
                  <a:pt x="21600" y="23398"/>
                </a:lnTo>
                <a:lnTo>
                  <a:pt x="0" y="23398"/>
                </a:lnTo>
                <a:close/>
              </a:path>
              <a:path fill="lightenLess" w="21600" h="23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8">
                <a:moveTo>
                  <a:pt x="21600" y="0"/>
                </a:moveTo>
                <a:lnTo>
                  <a:pt x="21600" y="23398"/>
                </a:lnTo>
                <a:lnTo>
                  <a:pt x="20200" y="21998"/>
                </a:lnTo>
                <a:lnTo>
                  <a:pt x="20200" y="1400"/>
                </a:lnTo>
                <a:close/>
              </a:path>
              <a:path fill="darkenLess" w="21600" h="23398">
                <a:moveTo>
                  <a:pt x="21600" y="23398"/>
                </a:moveTo>
                <a:lnTo>
                  <a:pt x="0" y="23398"/>
                </a:lnTo>
                <a:lnTo>
                  <a:pt x="1400" y="21998"/>
                </a:lnTo>
                <a:lnTo>
                  <a:pt x="20200" y="21998"/>
                </a:lnTo>
                <a:close/>
              </a:path>
              <a:path fill="lighten" w="21600" h="23398">
                <a:moveTo>
                  <a:pt x="0" y="23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8"/>
                </a:lnTo>
                <a:close/>
              </a:path>
              <a:path fill="darken" w="21600" h="23398">
                <a:moveTo>
                  <a:pt x="3794" y="8392"/>
                </a:moveTo>
                <a:lnTo>
                  <a:pt x="7301" y="8392"/>
                </a:lnTo>
                <a:lnTo>
                  <a:pt x="7301" y="13727"/>
                </a:lnTo>
                <a:cubicBezTo>
                  <a:pt x="7301" y="14650"/>
                  <a:pt x="8102" y="15381"/>
                  <a:pt x="9138" y="15381"/>
                </a:cubicBezTo>
                <a:lnTo>
                  <a:pt x="10800" y="15381"/>
                </a:lnTo>
                <a:cubicBezTo>
                  <a:pt x="11836" y="15381"/>
                  <a:pt x="12636" y="14650"/>
                  <a:pt x="12636" y="13727"/>
                </a:cubicBezTo>
                <a:lnTo>
                  <a:pt x="12636" y="8392"/>
                </a:lnTo>
                <a:lnTo>
                  <a:pt x="10800" y="8392"/>
                </a:lnTo>
                <a:lnTo>
                  <a:pt x="14308" y="4884"/>
                </a:lnTo>
                <a:lnTo>
                  <a:pt x="17981" y="8392"/>
                </a:lnTo>
                <a:lnTo>
                  <a:pt x="16144" y="8392"/>
                </a:lnTo>
                <a:lnTo>
                  <a:pt x="16144" y="13727"/>
                </a:lnTo>
                <a:cubicBezTo>
                  <a:pt x="16144" y="16495"/>
                  <a:pt x="13568" y="19054"/>
                  <a:pt x="10800" y="19054"/>
                </a:cubicBezTo>
                <a:lnTo>
                  <a:pt x="9138" y="19054"/>
                </a:lnTo>
                <a:cubicBezTo>
                  <a:pt x="6370" y="19054"/>
                  <a:pt x="3794" y="16495"/>
                  <a:pt x="3794" y="13727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914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86 x 7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SZ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8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>
            <a:hlinkClick r:id="rId3" action="ppaction://hlinksldjump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>
            <a:hlinkClick r:id="rId4" action="ppaction://hlinksldjump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304920" y="4038480"/>
            <a:ext cx="2666880" cy="25909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56 + 4 = 60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scriem la zec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notă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la s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106668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45720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 txBox="1"/>
          <p:nvPr/>
        </p:nvSpPr>
        <p:spPr>
          <a:xfrm>
            <a:off x="4114800" y="380880"/>
            <a:ext cx="4648320" cy="914400"/>
          </a:xfrm>
          <a:prstGeom prst="rect">
            <a:avLst/>
          </a:prstGeom>
          <a:solidFill>
            <a:srgbClr val="00ff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 </a:t>
            </a:r>
            <a:r>
              <a:rPr b="0" lang="ro-RO" sz="6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Verifică 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7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229600" y="685800"/>
            <a:ext cx="380880" cy="32076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">
            <a:hlinkClick r:id="" action="ppaction://hlinkshowjump?jump=firstslide"/>
          </p:cNvPr>
          <p:cNvSpPr/>
          <p:nvPr/>
        </p:nvSpPr>
        <p:spPr>
          <a:xfrm>
            <a:off x="304920" y="28195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00"/>
                </a:solidFill>
                <a:latin typeface="Arial"/>
              </a:rPr>
              <a:t>86 x 7 = 60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9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2133720" cy="1981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010" name=""/>
          <p:cNvSpPr txBox="1"/>
          <p:nvPr/>
        </p:nvSpPr>
        <p:spPr>
          <a:xfrm rot="21342000">
            <a:off x="3808440" y="1126800"/>
            <a:ext cx="4191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381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658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 i   r e u ş i t   !</a:t>
            </a:r>
            <a:endParaRPr b="1" i="1" lang="en-US" sz="4800" spc="1" strike="noStrike">
              <a:ln w="381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658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1" name="">
            <a:hlinkClick r:id="" action="ppaction://hlinkshowjump?jump=firstslide"/>
          </p:cNvPr>
          <p:cNvSpPr/>
          <p:nvPr/>
        </p:nvSpPr>
        <p:spPr>
          <a:xfrm>
            <a:off x="6858000" y="4343400"/>
            <a:ext cx="1676520" cy="1905120"/>
          </a:xfrm>
          <a:custGeom>
            <a:avLst/>
            <a:gdLst>
              <a:gd name="textAreaLeft" fmla="*/ 108360 w 1676520"/>
              <a:gd name="textAreaRight" fmla="*/ 1568160 w 1676520"/>
              <a:gd name="textAreaTop" fmla="*/ 108360 h 1905120"/>
              <a:gd name="textAreaBottom" fmla="*/ 1796760 h 1905120"/>
            </a:gdLst>
            <a:ahLst/>
            <a:rect l="textAreaLeft" t="textAreaTop" r="textAreaRight" b="textAreaBottom"/>
            <a:pathLst>
              <a:path w="21600" h="24545">
                <a:moveTo>
                  <a:pt x="0" y="0"/>
                </a:moveTo>
                <a:lnTo>
                  <a:pt x="21600" y="0"/>
                </a:lnTo>
                <a:lnTo>
                  <a:pt x="21600" y="24545"/>
                </a:lnTo>
                <a:lnTo>
                  <a:pt x="0" y="24545"/>
                </a:lnTo>
                <a:close/>
              </a:path>
              <a:path fill="lightenLess" w="21600" h="245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45">
                <a:moveTo>
                  <a:pt x="21600" y="0"/>
                </a:moveTo>
                <a:lnTo>
                  <a:pt x="21600" y="24545"/>
                </a:lnTo>
                <a:lnTo>
                  <a:pt x="20200" y="23145"/>
                </a:lnTo>
                <a:lnTo>
                  <a:pt x="20200" y="1400"/>
                </a:lnTo>
                <a:close/>
              </a:path>
              <a:path fill="darkenLess" w="21600" h="24545">
                <a:moveTo>
                  <a:pt x="21600" y="24545"/>
                </a:moveTo>
                <a:lnTo>
                  <a:pt x="0" y="24545"/>
                </a:lnTo>
                <a:lnTo>
                  <a:pt x="1400" y="23145"/>
                </a:lnTo>
                <a:lnTo>
                  <a:pt x="20200" y="23145"/>
                </a:lnTo>
                <a:close/>
              </a:path>
              <a:path fill="lighten" w="21600" h="24545">
                <a:moveTo>
                  <a:pt x="0" y="245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45"/>
                </a:lnTo>
                <a:close/>
              </a:path>
              <a:path fill="darken" w="21600" h="24545">
                <a:moveTo>
                  <a:pt x="3794" y="8965"/>
                </a:moveTo>
                <a:lnTo>
                  <a:pt x="7301" y="8965"/>
                </a:lnTo>
                <a:lnTo>
                  <a:pt x="7301" y="14300"/>
                </a:lnTo>
                <a:cubicBezTo>
                  <a:pt x="7301" y="15223"/>
                  <a:pt x="8102" y="15954"/>
                  <a:pt x="9138" y="15954"/>
                </a:cubicBezTo>
                <a:lnTo>
                  <a:pt x="10800" y="15954"/>
                </a:lnTo>
                <a:cubicBezTo>
                  <a:pt x="11836" y="15954"/>
                  <a:pt x="12636" y="15223"/>
                  <a:pt x="12636" y="14300"/>
                </a:cubicBezTo>
                <a:lnTo>
                  <a:pt x="12636" y="8965"/>
                </a:lnTo>
                <a:lnTo>
                  <a:pt x="10800" y="8965"/>
                </a:lnTo>
                <a:lnTo>
                  <a:pt x="14308" y="5457"/>
                </a:lnTo>
                <a:lnTo>
                  <a:pt x="17981" y="8965"/>
                </a:lnTo>
                <a:lnTo>
                  <a:pt x="16144" y="8965"/>
                </a:lnTo>
                <a:lnTo>
                  <a:pt x="16144" y="14300"/>
                </a:lnTo>
                <a:cubicBezTo>
                  <a:pt x="16144" y="17068"/>
                  <a:pt x="13568" y="19627"/>
                  <a:pt x="10800" y="19627"/>
                </a:cubicBezTo>
                <a:lnTo>
                  <a:pt x="9138" y="19627"/>
                </a:lnTo>
                <a:cubicBezTo>
                  <a:pt x="6370" y="19627"/>
                  <a:pt x="3794" y="17068"/>
                  <a:pt x="3794" y="14300"/>
                </a:cubicBezTo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108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>
            <a:hlinkClick r:id="" action="ppaction://hlinkshowjump?jump=firstslide"/>
          </p:cNvPr>
          <p:cNvSpPr/>
          <p:nvPr/>
        </p:nvSpPr>
        <p:spPr>
          <a:xfrm>
            <a:off x="1447920" y="5562720"/>
            <a:ext cx="5257800" cy="7095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333399"/>
                </a:solidFill>
                <a:latin typeface="Arial"/>
              </a:rPr>
              <a:t>Alege altă înmulţire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95840" cy="868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98 x 3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3 x 8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9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>
            <a:hlinkClick r:id="" action="ppaction://hlinkshowjump?jump=nex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>
            <a:hlinkClick r:id="rId3" action="ppaction://hlinksldjump"/>
          </p:cNvPr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>
            <a:hlinkClick r:id="rId4" action="ppaction://hlinksldjump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>
            <a:hlinkClick r:id="" action="ppaction://hlinkshowjump?jump=nex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"/>
          <p:cNvSpPr txBox="1"/>
          <p:nvPr/>
        </p:nvSpPr>
        <p:spPr>
          <a:xfrm rot="2154000">
            <a:off x="706320" y="1976400"/>
            <a:ext cx="525780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21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2122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123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3 x 8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>
            <a:hlinkClick r:id="" action="ppaction://hlinkshowjump?jump=previousslide"/>
          </p:cNvPr>
          <p:cNvSpPr/>
          <p:nvPr/>
        </p:nvSpPr>
        <p:spPr>
          <a:xfrm>
            <a:off x="6858000" y="3886200"/>
            <a:ext cx="1828800" cy="198108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080"/>
              <a:gd name="textAreaBottom" fmla="*/ 1862640 h 1981080"/>
            </a:gdLst>
            <a:ahLst/>
            <a:rect l="textAreaLeft" t="textAreaTop" r="textAreaRight" b="textAreaBottom"/>
            <a:pathLst>
              <a:path w="21600" h="23398">
                <a:moveTo>
                  <a:pt x="0" y="0"/>
                </a:moveTo>
                <a:lnTo>
                  <a:pt x="21600" y="0"/>
                </a:lnTo>
                <a:lnTo>
                  <a:pt x="21600" y="23398"/>
                </a:lnTo>
                <a:lnTo>
                  <a:pt x="0" y="23398"/>
                </a:lnTo>
                <a:close/>
              </a:path>
              <a:path fill="lightenLess" w="21600" h="23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8">
                <a:moveTo>
                  <a:pt x="21600" y="0"/>
                </a:moveTo>
                <a:lnTo>
                  <a:pt x="21600" y="23398"/>
                </a:lnTo>
                <a:lnTo>
                  <a:pt x="20200" y="21998"/>
                </a:lnTo>
                <a:lnTo>
                  <a:pt x="20200" y="1400"/>
                </a:lnTo>
                <a:close/>
              </a:path>
              <a:path fill="darkenLess" w="21600" h="23398">
                <a:moveTo>
                  <a:pt x="21600" y="23398"/>
                </a:moveTo>
                <a:lnTo>
                  <a:pt x="0" y="23398"/>
                </a:lnTo>
                <a:lnTo>
                  <a:pt x="1400" y="21998"/>
                </a:lnTo>
                <a:lnTo>
                  <a:pt x="20200" y="21998"/>
                </a:lnTo>
                <a:close/>
              </a:path>
              <a:path fill="lighten" w="21600" h="23398">
                <a:moveTo>
                  <a:pt x="0" y="23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8"/>
                </a:lnTo>
                <a:close/>
              </a:path>
              <a:path fill="darken" w="21600" h="23398">
                <a:moveTo>
                  <a:pt x="3794" y="8392"/>
                </a:moveTo>
                <a:lnTo>
                  <a:pt x="7301" y="8392"/>
                </a:lnTo>
                <a:lnTo>
                  <a:pt x="7301" y="13727"/>
                </a:lnTo>
                <a:cubicBezTo>
                  <a:pt x="7301" y="14650"/>
                  <a:pt x="8102" y="15381"/>
                  <a:pt x="9138" y="15381"/>
                </a:cubicBezTo>
                <a:lnTo>
                  <a:pt x="10800" y="15381"/>
                </a:lnTo>
                <a:cubicBezTo>
                  <a:pt x="11836" y="15381"/>
                  <a:pt x="12636" y="14650"/>
                  <a:pt x="12636" y="13727"/>
                </a:cubicBezTo>
                <a:lnTo>
                  <a:pt x="12636" y="8392"/>
                </a:lnTo>
                <a:lnTo>
                  <a:pt x="10800" y="8392"/>
                </a:lnTo>
                <a:lnTo>
                  <a:pt x="14308" y="4884"/>
                </a:lnTo>
                <a:lnTo>
                  <a:pt x="17981" y="8392"/>
                </a:lnTo>
                <a:lnTo>
                  <a:pt x="16144" y="8392"/>
                </a:lnTo>
                <a:lnTo>
                  <a:pt x="16144" y="13727"/>
                </a:lnTo>
                <a:cubicBezTo>
                  <a:pt x="16144" y="16495"/>
                  <a:pt x="13568" y="19054"/>
                  <a:pt x="10800" y="19054"/>
                </a:cubicBezTo>
                <a:lnTo>
                  <a:pt x="9138" y="19054"/>
                </a:lnTo>
                <a:cubicBezTo>
                  <a:pt x="6370" y="19054"/>
                  <a:pt x="3794" y="16495"/>
                  <a:pt x="3794" y="13727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914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98 x 3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3 x 9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9 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>
            <a:hlinkClick r:id="rId3" action="ppaction://hlinksldjump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>
            <a:hlinkClick r:id="rId4" action="ppaction://hlinksldjump"/>
          </p:cNvPr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>
            <a:hlinkClick r:id="rId5" action="ppaction://hlinksldjump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304920" y="4038480"/>
            <a:ext cx="2666880" cy="25909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24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scriem la unităţ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adună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la z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"/>
          <p:cNvSpPr txBox="1"/>
          <p:nvPr/>
        </p:nvSpPr>
        <p:spPr>
          <a:xfrm rot="2154000">
            <a:off x="706320" y="1976400"/>
            <a:ext cx="525780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36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2237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238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3 x 9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>
            <a:hlinkClick r:id="" action="ppaction://hlinkshowjump?jump=previousslide"/>
          </p:cNvPr>
          <p:cNvSpPr/>
          <p:nvPr/>
        </p:nvSpPr>
        <p:spPr>
          <a:xfrm>
            <a:off x="6858000" y="3886200"/>
            <a:ext cx="1828800" cy="198108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080"/>
              <a:gd name="textAreaBottom" fmla="*/ 1862640 h 1981080"/>
            </a:gdLst>
            <a:ahLst/>
            <a:rect l="textAreaLeft" t="textAreaTop" r="textAreaRight" b="textAreaBottom"/>
            <a:pathLst>
              <a:path w="21600" h="23398">
                <a:moveTo>
                  <a:pt x="0" y="0"/>
                </a:moveTo>
                <a:lnTo>
                  <a:pt x="21600" y="0"/>
                </a:lnTo>
                <a:lnTo>
                  <a:pt x="21600" y="23398"/>
                </a:lnTo>
                <a:lnTo>
                  <a:pt x="0" y="23398"/>
                </a:lnTo>
                <a:close/>
              </a:path>
              <a:path fill="lightenLess" w="21600" h="23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8">
                <a:moveTo>
                  <a:pt x="21600" y="0"/>
                </a:moveTo>
                <a:lnTo>
                  <a:pt x="21600" y="23398"/>
                </a:lnTo>
                <a:lnTo>
                  <a:pt x="20200" y="21998"/>
                </a:lnTo>
                <a:lnTo>
                  <a:pt x="20200" y="1400"/>
                </a:lnTo>
                <a:close/>
              </a:path>
              <a:path fill="darkenLess" w="21600" h="23398">
                <a:moveTo>
                  <a:pt x="21600" y="23398"/>
                </a:moveTo>
                <a:lnTo>
                  <a:pt x="0" y="23398"/>
                </a:lnTo>
                <a:lnTo>
                  <a:pt x="1400" y="21998"/>
                </a:lnTo>
                <a:lnTo>
                  <a:pt x="20200" y="21998"/>
                </a:lnTo>
                <a:close/>
              </a:path>
              <a:path fill="lighten" w="21600" h="23398">
                <a:moveTo>
                  <a:pt x="0" y="23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8"/>
                </a:lnTo>
                <a:close/>
              </a:path>
              <a:path fill="darken" w="21600" h="23398">
                <a:moveTo>
                  <a:pt x="3794" y="8392"/>
                </a:moveTo>
                <a:lnTo>
                  <a:pt x="7301" y="8392"/>
                </a:lnTo>
                <a:lnTo>
                  <a:pt x="7301" y="13727"/>
                </a:lnTo>
                <a:cubicBezTo>
                  <a:pt x="7301" y="14650"/>
                  <a:pt x="8102" y="15381"/>
                  <a:pt x="9138" y="15381"/>
                </a:cubicBezTo>
                <a:lnTo>
                  <a:pt x="10800" y="15381"/>
                </a:lnTo>
                <a:cubicBezTo>
                  <a:pt x="11836" y="15381"/>
                  <a:pt x="12636" y="14650"/>
                  <a:pt x="12636" y="13727"/>
                </a:cubicBezTo>
                <a:lnTo>
                  <a:pt x="12636" y="8392"/>
                </a:lnTo>
                <a:lnTo>
                  <a:pt x="10800" y="8392"/>
                </a:lnTo>
                <a:lnTo>
                  <a:pt x="14308" y="4884"/>
                </a:lnTo>
                <a:lnTo>
                  <a:pt x="17981" y="8392"/>
                </a:lnTo>
                <a:lnTo>
                  <a:pt x="16144" y="8392"/>
                </a:lnTo>
                <a:lnTo>
                  <a:pt x="16144" y="13727"/>
                </a:lnTo>
                <a:cubicBezTo>
                  <a:pt x="16144" y="16495"/>
                  <a:pt x="13568" y="19054"/>
                  <a:pt x="10800" y="19054"/>
                </a:cubicBezTo>
                <a:lnTo>
                  <a:pt x="9138" y="19054"/>
                </a:lnTo>
                <a:cubicBezTo>
                  <a:pt x="6370" y="19054"/>
                  <a:pt x="3794" y="16495"/>
                  <a:pt x="3794" y="13727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914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124 x 6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6 x 2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1 2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4038480"/>
            <a:ext cx="2666880" cy="25909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scriem la unităţ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adună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la ze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914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98 x 3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8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>
            <a:hlinkClick r:id="rId3" action="ppaction://hlinksldjump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>
            <a:hlinkClick r:id="rId4" action="ppaction://hlinksldjump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304920" y="4038480"/>
            <a:ext cx="2666880" cy="25909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27 + 2 = 29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scriem la zec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notă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6600"/>
                </a:solidFill>
                <a:latin typeface="Arial"/>
              </a:rPr>
              <a:t>la s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106668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45720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 txBox="1"/>
          <p:nvPr/>
        </p:nvSpPr>
        <p:spPr>
          <a:xfrm>
            <a:off x="4114800" y="380880"/>
            <a:ext cx="4648320" cy="9144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 </a:t>
            </a:r>
            <a:r>
              <a:rPr b="0" lang="ro-RO" sz="6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Verifică 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2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229600" y="685800"/>
            <a:ext cx="380880" cy="32076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">
            <a:hlinkClick r:id="" action="ppaction://hlinkshowjump?jump=firstslide"/>
          </p:cNvPr>
          <p:cNvSpPr/>
          <p:nvPr/>
        </p:nvSpPr>
        <p:spPr>
          <a:xfrm>
            <a:off x="304920" y="28195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cc3300"/>
                </a:solidFill>
                <a:latin typeface="Arial"/>
              </a:rPr>
              <a:t>98 x 3 = 29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4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2133720" cy="1981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355" name=""/>
          <p:cNvSpPr txBox="1"/>
          <p:nvPr/>
        </p:nvSpPr>
        <p:spPr>
          <a:xfrm rot="21342000">
            <a:off x="3808440" y="1126800"/>
            <a:ext cx="4191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381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6600"/>
                    </a:gs>
                  </a:gsLst>
                  <a:lin ang="5658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 i   r e u ş i t   !</a:t>
            </a:r>
            <a:endParaRPr b="1" i="1" lang="en-US" sz="4800" spc="1" strike="noStrike">
              <a:ln w="381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6600"/>
                  </a:gs>
                </a:gsLst>
                <a:lin ang="5658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6" name="">
            <a:hlinkClick r:id="" action="ppaction://hlinkshowjump?jump=firstslide"/>
          </p:cNvPr>
          <p:cNvSpPr/>
          <p:nvPr/>
        </p:nvSpPr>
        <p:spPr>
          <a:xfrm>
            <a:off x="6858000" y="4343400"/>
            <a:ext cx="1676520" cy="1905120"/>
          </a:xfrm>
          <a:custGeom>
            <a:avLst/>
            <a:gdLst>
              <a:gd name="textAreaLeft" fmla="*/ 108360 w 1676520"/>
              <a:gd name="textAreaRight" fmla="*/ 1568160 w 1676520"/>
              <a:gd name="textAreaTop" fmla="*/ 108360 h 1905120"/>
              <a:gd name="textAreaBottom" fmla="*/ 1796760 h 1905120"/>
            </a:gdLst>
            <a:ahLst/>
            <a:rect l="textAreaLeft" t="textAreaTop" r="textAreaRight" b="textAreaBottom"/>
            <a:pathLst>
              <a:path w="21600" h="24545">
                <a:moveTo>
                  <a:pt x="0" y="0"/>
                </a:moveTo>
                <a:lnTo>
                  <a:pt x="21600" y="0"/>
                </a:lnTo>
                <a:lnTo>
                  <a:pt x="21600" y="24545"/>
                </a:lnTo>
                <a:lnTo>
                  <a:pt x="0" y="24545"/>
                </a:lnTo>
                <a:close/>
              </a:path>
              <a:path fill="lightenLess" w="21600" h="245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45">
                <a:moveTo>
                  <a:pt x="21600" y="0"/>
                </a:moveTo>
                <a:lnTo>
                  <a:pt x="21600" y="24545"/>
                </a:lnTo>
                <a:lnTo>
                  <a:pt x="20200" y="23145"/>
                </a:lnTo>
                <a:lnTo>
                  <a:pt x="20200" y="1400"/>
                </a:lnTo>
                <a:close/>
              </a:path>
              <a:path fill="darkenLess" w="21600" h="24545">
                <a:moveTo>
                  <a:pt x="21600" y="24545"/>
                </a:moveTo>
                <a:lnTo>
                  <a:pt x="0" y="24545"/>
                </a:lnTo>
                <a:lnTo>
                  <a:pt x="1400" y="23145"/>
                </a:lnTo>
                <a:lnTo>
                  <a:pt x="20200" y="23145"/>
                </a:lnTo>
                <a:close/>
              </a:path>
              <a:path fill="lighten" w="21600" h="24545">
                <a:moveTo>
                  <a:pt x="0" y="245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45"/>
                </a:lnTo>
                <a:close/>
              </a:path>
              <a:path fill="darken" w="21600" h="24545">
                <a:moveTo>
                  <a:pt x="3794" y="8965"/>
                </a:moveTo>
                <a:lnTo>
                  <a:pt x="7301" y="8965"/>
                </a:lnTo>
                <a:lnTo>
                  <a:pt x="7301" y="14300"/>
                </a:lnTo>
                <a:cubicBezTo>
                  <a:pt x="7301" y="15223"/>
                  <a:pt x="8102" y="15954"/>
                  <a:pt x="9138" y="15954"/>
                </a:cubicBezTo>
                <a:lnTo>
                  <a:pt x="10800" y="15954"/>
                </a:lnTo>
                <a:cubicBezTo>
                  <a:pt x="11836" y="15954"/>
                  <a:pt x="12636" y="15223"/>
                  <a:pt x="12636" y="14300"/>
                </a:cubicBezTo>
                <a:lnTo>
                  <a:pt x="12636" y="8965"/>
                </a:lnTo>
                <a:lnTo>
                  <a:pt x="10800" y="8965"/>
                </a:lnTo>
                <a:lnTo>
                  <a:pt x="14308" y="5457"/>
                </a:lnTo>
                <a:lnTo>
                  <a:pt x="17981" y="8965"/>
                </a:lnTo>
                <a:lnTo>
                  <a:pt x="16144" y="8965"/>
                </a:lnTo>
                <a:lnTo>
                  <a:pt x="16144" y="14300"/>
                </a:lnTo>
                <a:cubicBezTo>
                  <a:pt x="16144" y="17068"/>
                  <a:pt x="13568" y="19627"/>
                  <a:pt x="10800" y="19627"/>
                </a:cubicBezTo>
                <a:lnTo>
                  <a:pt x="9138" y="19627"/>
                </a:lnTo>
                <a:cubicBezTo>
                  <a:pt x="6370" y="19627"/>
                  <a:pt x="3794" y="17068"/>
                  <a:pt x="3794" y="14300"/>
                </a:cubicBezTo>
                <a:close/>
              </a:path>
            </a:pathLst>
          </a:cu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108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>
            <a:hlinkClick r:id="" action="ppaction://hlinkshowjump?jump=firstslide"/>
          </p:cNvPr>
          <p:cNvSpPr/>
          <p:nvPr/>
        </p:nvSpPr>
        <p:spPr>
          <a:xfrm>
            <a:off x="1447920" y="5562720"/>
            <a:ext cx="5257800" cy="7095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333399"/>
                </a:solidFill>
                <a:latin typeface="Arial"/>
              </a:rPr>
              <a:t>Alege altă înmulţire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 rot="2154000">
            <a:off x="466200" y="2016000"/>
            <a:ext cx="6172200" cy="127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9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280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281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6 x 2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6858000" y="4038480"/>
            <a:ext cx="1828800" cy="198144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440"/>
              <a:gd name="textAreaBottom" fmla="*/ 1863000 h 198144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3794" y="8394"/>
                </a:moveTo>
                <a:lnTo>
                  <a:pt x="7301" y="8394"/>
                </a:lnTo>
                <a:lnTo>
                  <a:pt x="7301" y="13729"/>
                </a:lnTo>
                <a:cubicBezTo>
                  <a:pt x="7301" y="14652"/>
                  <a:pt x="8102" y="15383"/>
                  <a:pt x="9138" y="15383"/>
                </a:cubicBezTo>
                <a:lnTo>
                  <a:pt x="10800" y="15383"/>
                </a:lnTo>
                <a:cubicBezTo>
                  <a:pt x="11836" y="15383"/>
                  <a:pt x="12636" y="14652"/>
                  <a:pt x="12636" y="13729"/>
                </a:cubicBezTo>
                <a:lnTo>
                  <a:pt x="12636" y="8394"/>
                </a:lnTo>
                <a:lnTo>
                  <a:pt x="10800" y="8394"/>
                </a:lnTo>
                <a:lnTo>
                  <a:pt x="14308" y="4886"/>
                </a:lnTo>
                <a:lnTo>
                  <a:pt x="17981" y="8394"/>
                </a:lnTo>
                <a:lnTo>
                  <a:pt x="16144" y="8394"/>
                </a:lnTo>
                <a:lnTo>
                  <a:pt x="16144" y="13729"/>
                </a:lnTo>
                <a:cubicBezTo>
                  <a:pt x="16144" y="16497"/>
                  <a:pt x="13568" y="19056"/>
                  <a:pt x="10800" y="19056"/>
                </a:cubicBezTo>
                <a:lnTo>
                  <a:pt x="9138" y="19056"/>
                </a:lnTo>
                <a:cubicBezTo>
                  <a:pt x="6370" y="19056"/>
                  <a:pt x="3794" y="16497"/>
                  <a:pt x="3794" y="13729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124 x 6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352680" y="3808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Alege produsul   </a:t>
            </a:r>
            <a:r>
              <a:rPr b="1" lang="ro-RO" sz="5400" spc="-1" strike="noStrike">
                <a:solidFill>
                  <a:srgbClr val="ff0000"/>
                </a:solidFill>
                <a:latin typeface="Arial"/>
              </a:rPr>
              <a:t>6 x 1 </a:t>
            </a: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1 2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" y="3962520"/>
            <a:ext cx="2743200" cy="236196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+ 2 = 14.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criem la zec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dună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la s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300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 rot="2154000">
            <a:off x="720360" y="2160360"/>
            <a:ext cx="586584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95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6172200" y="457200"/>
            <a:ext cx="2463840" cy="212724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396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4114800" y="533520"/>
            <a:ext cx="1104840" cy="1057320"/>
          </a:xfrm>
          <a:prstGeom prst="rect">
            <a:avLst/>
          </a:prstGeom>
          <a:ln w="0">
            <a:noFill/>
          </a:ln>
        </p:spPr>
      </p:pic>
      <p:sp>
        <p:nvSpPr>
          <p:cNvPr id="397" name="">
            <a:hlinkClick r:id="" action="ppaction://hlinkshowjump?jump=firstslide"/>
          </p:cNvPr>
          <p:cNvSpPr/>
          <p:nvPr/>
        </p:nvSpPr>
        <p:spPr>
          <a:xfrm>
            <a:off x="685800" y="3352680"/>
            <a:ext cx="2209680" cy="106884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Mai </a:t>
            </a:r>
            <a:r>
              <a:rPr b="1" lang="ro-RO" sz="3200" spc="-1" strike="noStrike">
                <a:solidFill>
                  <a:srgbClr val="ff00ff"/>
                </a:solidFill>
                <a:latin typeface="Arial"/>
              </a:rPr>
              <a:t>încearcă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>
            <a:hlinkClick r:id="" action="ppaction://hlinkshowjump?jump=firstslide"/>
          </p:cNvPr>
          <p:cNvSpPr/>
          <p:nvPr/>
        </p:nvSpPr>
        <p:spPr>
          <a:xfrm>
            <a:off x="685800" y="4724280"/>
            <a:ext cx="3200400" cy="825120"/>
          </a:xfrm>
          <a:prstGeom prst="rect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ff"/>
                </a:solidFill>
                <a:latin typeface="Arial"/>
              </a:rPr>
              <a:t>6 x 1 …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" action="ppaction://hlinkshowjump?jump=previousslide"/>
          </p:cNvPr>
          <p:cNvSpPr/>
          <p:nvPr/>
        </p:nvSpPr>
        <p:spPr>
          <a:xfrm>
            <a:off x="6858000" y="3886200"/>
            <a:ext cx="1828800" cy="198108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1981080"/>
              <a:gd name="textAreaBottom" fmla="*/ 1862640 h 1981080"/>
            </a:gdLst>
            <a:ahLst/>
            <a:rect l="textAreaLeft" t="textAreaTop" r="textAreaRight" b="textAreaBottom"/>
            <a:pathLst>
              <a:path w="21600" h="23398">
                <a:moveTo>
                  <a:pt x="0" y="0"/>
                </a:moveTo>
                <a:lnTo>
                  <a:pt x="21600" y="0"/>
                </a:lnTo>
                <a:lnTo>
                  <a:pt x="21600" y="23398"/>
                </a:lnTo>
                <a:lnTo>
                  <a:pt x="0" y="23398"/>
                </a:lnTo>
                <a:close/>
              </a:path>
              <a:path fill="lightenLess" w="21600" h="233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98">
                <a:moveTo>
                  <a:pt x="21600" y="0"/>
                </a:moveTo>
                <a:lnTo>
                  <a:pt x="21600" y="23398"/>
                </a:lnTo>
                <a:lnTo>
                  <a:pt x="20200" y="21998"/>
                </a:lnTo>
                <a:lnTo>
                  <a:pt x="20200" y="1400"/>
                </a:lnTo>
                <a:close/>
              </a:path>
              <a:path fill="darkenLess" w="21600" h="23398">
                <a:moveTo>
                  <a:pt x="21600" y="23398"/>
                </a:moveTo>
                <a:lnTo>
                  <a:pt x="0" y="23398"/>
                </a:lnTo>
                <a:lnTo>
                  <a:pt x="1400" y="21998"/>
                </a:lnTo>
                <a:lnTo>
                  <a:pt x="20200" y="21998"/>
                </a:lnTo>
                <a:close/>
              </a:path>
              <a:path fill="lighten" w="21600" h="23398">
                <a:moveTo>
                  <a:pt x="0" y="233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98"/>
                </a:lnTo>
                <a:close/>
              </a:path>
              <a:path fill="darken" w="21600" h="23398">
                <a:moveTo>
                  <a:pt x="3794" y="8392"/>
                </a:moveTo>
                <a:lnTo>
                  <a:pt x="7301" y="8392"/>
                </a:lnTo>
                <a:lnTo>
                  <a:pt x="7301" y="13727"/>
                </a:lnTo>
                <a:cubicBezTo>
                  <a:pt x="7301" y="14650"/>
                  <a:pt x="8102" y="15381"/>
                  <a:pt x="9138" y="15381"/>
                </a:cubicBezTo>
                <a:lnTo>
                  <a:pt x="10800" y="15381"/>
                </a:lnTo>
                <a:cubicBezTo>
                  <a:pt x="11836" y="15381"/>
                  <a:pt x="12636" y="14650"/>
                  <a:pt x="12636" y="13727"/>
                </a:cubicBezTo>
                <a:lnTo>
                  <a:pt x="12636" y="8392"/>
                </a:lnTo>
                <a:lnTo>
                  <a:pt x="10800" y="8392"/>
                </a:lnTo>
                <a:lnTo>
                  <a:pt x="14308" y="4884"/>
                </a:lnTo>
                <a:lnTo>
                  <a:pt x="17981" y="8392"/>
                </a:lnTo>
                <a:lnTo>
                  <a:pt x="16144" y="8392"/>
                </a:lnTo>
                <a:lnTo>
                  <a:pt x="16144" y="13727"/>
                </a:lnTo>
                <a:cubicBezTo>
                  <a:pt x="16144" y="16495"/>
                  <a:pt x="13568" y="19054"/>
                  <a:pt x="10800" y="19054"/>
                </a:cubicBezTo>
                <a:lnTo>
                  <a:pt x="9138" y="19054"/>
                </a:lnTo>
                <a:cubicBezTo>
                  <a:pt x="6370" y="19054"/>
                  <a:pt x="3794" y="16495"/>
                  <a:pt x="3794" y="13727"/>
                </a:cubicBezTo>
                <a:close/>
              </a:path>
            </a:pathLst>
          </a:cu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2819520" cy="868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6600"/>
                </a:solidFill>
                <a:latin typeface="Arial"/>
              </a:rPr>
              <a:t>124 x 6 </a:t>
            </a:r>
            <a:r>
              <a:rPr b="1" lang="ro-RO" sz="1600" spc="-1" strike="noStrike">
                <a:solidFill>
                  <a:srgbClr val="ff0000"/>
                </a:solidFill>
                <a:latin typeface="Arial"/>
              </a:rPr>
              <a:t>SZ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09120" y="1523520"/>
            <a:ext cx="1600200" cy="76212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1 2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" action="ppaction://hlinkshowjump?jump=nextslide"/>
          </p:cNvPr>
          <p:cNvSpPr/>
          <p:nvPr/>
        </p:nvSpPr>
        <p:spPr>
          <a:xfrm>
            <a:off x="32004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" action="ppaction://hlinkshowjump?jump=nextslide"/>
          </p:cNvPr>
          <p:cNvSpPr/>
          <p:nvPr/>
        </p:nvSpPr>
        <p:spPr>
          <a:xfrm>
            <a:off x="37339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" action="ppaction://hlinkshowjump?jump=nextslide"/>
          </p:cNvPr>
          <p:cNvSpPr/>
          <p:nvPr/>
        </p:nvSpPr>
        <p:spPr>
          <a:xfrm>
            <a:off x="42670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" action="ppaction://hlinkshowjump?jump=nextslide"/>
          </p:cNvPr>
          <p:cNvSpPr/>
          <p:nvPr/>
        </p:nvSpPr>
        <p:spPr>
          <a:xfrm>
            <a:off x="48006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>
            <a:hlinkClick r:id="" action="ppaction://hlinkshowjump?jump=nextslide"/>
          </p:cNvPr>
          <p:cNvSpPr/>
          <p:nvPr/>
        </p:nvSpPr>
        <p:spPr>
          <a:xfrm>
            <a:off x="53341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>
            <a:hlinkClick r:id="" action="ppaction://hlinkshowjump?jump=nextslide"/>
          </p:cNvPr>
          <p:cNvSpPr/>
          <p:nvPr/>
        </p:nvSpPr>
        <p:spPr>
          <a:xfrm>
            <a:off x="58672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6400800" y="1523880"/>
            <a:ext cx="533520" cy="4572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" action="ppaction://hlinkshowjump?jump=nextslide"/>
          </p:cNvPr>
          <p:cNvSpPr/>
          <p:nvPr/>
        </p:nvSpPr>
        <p:spPr>
          <a:xfrm>
            <a:off x="6934320" y="1523880"/>
            <a:ext cx="53316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>
            <a:hlinkClick r:id="" action="ppaction://hlinkshowjump?jump=nextslide"/>
          </p:cNvPr>
          <p:cNvSpPr/>
          <p:nvPr/>
        </p:nvSpPr>
        <p:spPr>
          <a:xfrm>
            <a:off x="746748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" action="ppaction://hlinkshowjump?jump=nextslide"/>
          </p:cNvPr>
          <p:cNvSpPr/>
          <p:nvPr/>
        </p:nvSpPr>
        <p:spPr>
          <a:xfrm>
            <a:off x="8001000" y="1523880"/>
            <a:ext cx="533520" cy="457200"/>
          </a:xfrm>
          <a:prstGeom prst="rect">
            <a:avLst/>
          </a:prstGeom>
          <a:solidFill>
            <a:srgbClr val="66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>
            <a:hlinkClick r:id="" action="ppaction://hlinkshowjump?jump=nextslide"/>
          </p:cNvPr>
          <p:cNvSpPr/>
          <p:nvPr/>
        </p:nvSpPr>
        <p:spPr>
          <a:xfrm>
            <a:off x="32004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>
            <a:hlinkClick r:id="" action="ppaction://hlinkshowjump?jump=nextslide"/>
          </p:cNvPr>
          <p:cNvSpPr/>
          <p:nvPr/>
        </p:nvSpPr>
        <p:spPr>
          <a:xfrm>
            <a:off x="32004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" action="ppaction://hlinkshowjump?jump=nextslide"/>
          </p:cNvPr>
          <p:cNvSpPr/>
          <p:nvPr/>
        </p:nvSpPr>
        <p:spPr>
          <a:xfrm>
            <a:off x="32004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" action="ppaction://hlinkshowjump?jump=nextslide"/>
          </p:cNvPr>
          <p:cNvSpPr/>
          <p:nvPr/>
        </p:nvSpPr>
        <p:spPr>
          <a:xfrm>
            <a:off x="32004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>
            <a:hlinkClick r:id="" action="ppaction://hlinkshowjump?jump=nextslide"/>
          </p:cNvPr>
          <p:cNvSpPr/>
          <p:nvPr/>
        </p:nvSpPr>
        <p:spPr>
          <a:xfrm>
            <a:off x="32004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nextslide"/>
          </p:cNvPr>
          <p:cNvSpPr/>
          <p:nvPr/>
        </p:nvSpPr>
        <p:spPr>
          <a:xfrm>
            <a:off x="32004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nextslide"/>
          </p:cNvPr>
          <p:cNvSpPr/>
          <p:nvPr/>
        </p:nvSpPr>
        <p:spPr>
          <a:xfrm>
            <a:off x="32004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32004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" action="ppaction://hlinkshowjump?jump=nextslide"/>
          </p:cNvPr>
          <p:cNvSpPr/>
          <p:nvPr/>
        </p:nvSpPr>
        <p:spPr>
          <a:xfrm>
            <a:off x="37339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" action="ppaction://hlinkshowjump?jump=nextslide"/>
          </p:cNvPr>
          <p:cNvSpPr/>
          <p:nvPr/>
        </p:nvSpPr>
        <p:spPr>
          <a:xfrm>
            <a:off x="42670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2004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006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341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4008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934320" y="20574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46748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001000" y="20574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7339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2670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8006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3341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8672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4008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34320" y="25146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46748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001000" y="25146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" action="ppaction://hlinkshowjump?jump=nextslide"/>
          </p:cNvPr>
          <p:cNvSpPr/>
          <p:nvPr/>
        </p:nvSpPr>
        <p:spPr>
          <a:xfrm>
            <a:off x="37339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>
            <a:hlinkClick r:id="" action="ppaction://hlinkshowjump?jump=nextslide"/>
          </p:cNvPr>
          <p:cNvSpPr/>
          <p:nvPr/>
        </p:nvSpPr>
        <p:spPr>
          <a:xfrm>
            <a:off x="42670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>
            <a:hlinkClick r:id="" action="ppaction://hlinkshowjump?jump=nextslide"/>
          </p:cNvPr>
          <p:cNvSpPr/>
          <p:nvPr/>
        </p:nvSpPr>
        <p:spPr>
          <a:xfrm>
            <a:off x="48006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" action="ppaction://hlinkshowjump?jump=nextslide"/>
          </p:cNvPr>
          <p:cNvSpPr/>
          <p:nvPr/>
        </p:nvSpPr>
        <p:spPr>
          <a:xfrm>
            <a:off x="53341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58672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64008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>
            <a:hlinkClick r:id="" action="ppaction://hlinkshowjump?jump=nextslide"/>
          </p:cNvPr>
          <p:cNvSpPr/>
          <p:nvPr/>
        </p:nvSpPr>
        <p:spPr>
          <a:xfrm>
            <a:off x="6934320" y="29718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nextslide"/>
          </p:cNvPr>
          <p:cNvSpPr/>
          <p:nvPr/>
        </p:nvSpPr>
        <p:spPr>
          <a:xfrm>
            <a:off x="746748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8001000" y="29718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>
            <a:hlinkClick r:id="" action="ppaction://hlinkshowjump?jump=nextslide"/>
          </p:cNvPr>
          <p:cNvSpPr/>
          <p:nvPr/>
        </p:nvSpPr>
        <p:spPr>
          <a:xfrm>
            <a:off x="37339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>
            <a:hlinkClick r:id="" action="ppaction://hlinkshowjump?jump=nextslide"/>
          </p:cNvPr>
          <p:cNvSpPr/>
          <p:nvPr/>
        </p:nvSpPr>
        <p:spPr>
          <a:xfrm>
            <a:off x="42670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" action="ppaction://hlinkshowjump?jump=nextslide"/>
          </p:cNvPr>
          <p:cNvSpPr/>
          <p:nvPr/>
        </p:nvSpPr>
        <p:spPr>
          <a:xfrm>
            <a:off x="53341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" action="ppaction://hlinkshowjump?jump=nextslide"/>
          </p:cNvPr>
          <p:cNvSpPr/>
          <p:nvPr/>
        </p:nvSpPr>
        <p:spPr>
          <a:xfrm>
            <a:off x="58672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64008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6934320" y="34290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nextslide"/>
          </p:cNvPr>
          <p:cNvSpPr/>
          <p:nvPr/>
        </p:nvSpPr>
        <p:spPr>
          <a:xfrm>
            <a:off x="746748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" action="ppaction://hlinkshowjump?jump=nextslide"/>
          </p:cNvPr>
          <p:cNvSpPr/>
          <p:nvPr/>
        </p:nvSpPr>
        <p:spPr>
          <a:xfrm>
            <a:off x="8001000" y="34290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37339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>
            <a:hlinkClick r:id="" action="ppaction://hlinkshowjump?jump=nextslide"/>
          </p:cNvPr>
          <p:cNvSpPr/>
          <p:nvPr/>
        </p:nvSpPr>
        <p:spPr>
          <a:xfrm>
            <a:off x="42670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48006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>
            <a:hlinkClick r:id="" action="ppaction://hlinkshowjump?jump=nextslide"/>
          </p:cNvPr>
          <p:cNvSpPr/>
          <p:nvPr/>
        </p:nvSpPr>
        <p:spPr>
          <a:xfrm>
            <a:off x="53341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>
            <a:hlinkClick r:id="" action="ppaction://hlinkshowjump?jump=nextslide"/>
          </p:cNvPr>
          <p:cNvSpPr/>
          <p:nvPr/>
        </p:nvSpPr>
        <p:spPr>
          <a:xfrm>
            <a:off x="58672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64008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6934320" y="38862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>
            <a:hlinkClick r:id="" action="ppaction://hlinkshowjump?jump=nextslide"/>
          </p:cNvPr>
          <p:cNvSpPr/>
          <p:nvPr/>
        </p:nvSpPr>
        <p:spPr>
          <a:xfrm>
            <a:off x="746748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8001000" y="38862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>
            <a:hlinkClick r:id="" action="ppaction://hlinkshowjump?jump=nextslide"/>
          </p:cNvPr>
          <p:cNvSpPr/>
          <p:nvPr/>
        </p:nvSpPr>
        <p:spPr>
          <a:xfrm>
            <a:off x="37339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" action="ppaction://hlinkshowjump?jump=nextslide"/>
          </p:cNvPr>
          <p:cNvSpPr/>
          <p:nvPr/>
        </p:nvSpPr>
        <p:spPr>
          <a:xfrm>
            <a:off x="42670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nextslide"/>
          </p:cNvPr>
          <p:cNvSpPr/>
          <p:nvPr/>
        </p:nvSpPr>
        <p:spPr>
          <a:xfrm>
            <a:off x="48006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" action="ppaction://hlinkshowjump?jump=nextslide"/>
          </p:cNvPr>
          <p:cNvSpPr/>
          <p:nvPr/>
        </p:nvSpPr>
        <p:spPr>
          <a:xfrm>
            <a:off x="53341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" action="ppaction://hlinkshowjump?jump=nextslide"/>
          </p:cNvPr>
          <p:cNvSpPr/>
          <p:nvPr/>
        </p:nvSpPr>
        <p:spPr>
          <a:xfrm>
            <a:off x="58672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" action="ppaction://hlinkshowjump?jump=nextslide"/>
          </p:cNvPr>
          <p:cNvSpPr/>
          <p:nvPr/>
        </p:nvSpPr>
        <p:spPr>
          <a:xfrm>
            <a:off x="64008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>
            <a:hlinkClick r:id="" action="ppaction://hlinkshowjump?jump=nextslide"/>
          </p:cNvPr>
          <p:cNvSpPr/>
          <p:nvPr/>
        </p:nvSpPr>
        <p:spPr>
          <a:xfrm>
            <a:off x="6934320" y="43434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nextslide"/>
          </p:cNvPr>
          <p:cNvSpPr/>
          <p:nvPr/>
        </p:nvSpPr>
        <p:spPr>
          <a:xfrm>
            <a:off x="746748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>
            <a:hlinkClick r:id="" action="ppaction://hlinkshowjump?jump=nextslide"/>
          </p:cNvPr>
          <p:cNvSpPr/>
          <p:nvPr/>
        </p:nvSpPr>
        <p:spPr>
          <a:xfrm>
            <a:off x="8001000" y="43434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" action="ppaction://hlinkshowjump?jump=nextslide"/>
          </p:cNvPr>
          <p:cNvSpPr/>
          <p:nvPr/>
        </p:nvSpPr>
        <p:spPr>
          <a:xfrm>
            <a:off x="37339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>
            <a:hlinkClick r:id="" action="ppaction://hlinkshowjump?jump=nextslide"/>
          </p:cNvPr>
          <p:cNvSpPr/>
          <p:nvPr/>
        </p:nvSpPr>
        <p:spPr>
          <a:xfrm>
            <a:off x="42670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>
            <a:hlinkClick r:id="" action="ppaction://hlinkshowjump?jump=nextslide"/>
          </p:cNvPr>
          <p:cNvSpPr/>
          <p:nvPr/>
        </p:nvSpPr>
        <p:spPr>
          <a:xfrm>
            <a:off x="48006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" action="ppaction://hlinkshowjump?jump=nextslide"/>
          </p:cNvPr>
          <p:cNvSpPr/>
          <p:nvPr/>
        </p:nvSpPr>
        <p:spPr>
          <a:xfrm>
            <a:off x="58672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>
            <a:hlinkClick r:id="" action="ppaction://hlinkshowjump?jump=nextslide"/>
          </p:cNvPr>
          <p:cNvSpPr/>
          <p:nvPr/>
        </p:nvSpPr>
        <p:spPr>
          <a:xfrm>
            <a:off x="64008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" action="ppaction://hlinkshowjump?jump=nextslide"/>
          </p:cNvPr>
          <p:cNvSpPr/>
          <p:nvPr/>
        </p:nvSpPr>
        <p:spPr>
          <a:xfrm>
            <a:off x="6934320" y="48006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>
            <a:hlinkClick r:id="" action="ppaction://hlinkshowjump?jump=nextslide"/>
          </p:cNvPr>
          <p:cNvSpPr/>
          <p:nvPr/>
        </p:nvSpPr>
        <p:spPr>
          <a:xfrm>
            <a:off x="746748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" action="ppaction://hlinkshowjump?jump=nextslide"/>
          </p:cNvPr>
          <p:cNvSpPr/>
          <p:nvPr/>
        </p:nvSpPr>
        <p:spPr>
          <a:xfrm>
            <a:off x="8001000" y="48006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" action="ppaction://hlinkshowjump?jump=nextslide"/>
          </p:cNvPr>
          <p:cNvSpPr/>
          <p:nvPr/>
        </p:nvSpPr>
        <p:spPr>
          <a:xfrm>
            <a:off x="37339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>
            <a:hlinkClick r:id="" action="ppaction://hlinkshowjump?jump=nextslide"/>
          </p:cNvPr>
          <p:cNvSpPr/>
          <p:nvPr/>
        </p:nvSpPr>
        <p:spPr>
          <a:xfrm>
            <a:off x="42670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>
            <a:hlinkClick r:id="" action="ppaction://hlinkshowjump?jump=nextslide"/>
          </p:cNvPr>
          <p:cNvSpPr/>
          <p:nvPr/>
        </p:nvSpPr>
        <p:spPr>
          <a:xfrm>
            <a:off x="48006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" action="ppaction://hlinkshowjump?jump=nextslide"/>
          </p:cNvPr>
          <p:cNvSpPr/>
          <p:nvPr/>
        </p:nvSpPr>
        <p:spPr>
          <a:xfrm>
            <a:off x="53341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58672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>
            <a:hlinkClick r:id="" action="ppaction://hlinkshowjump?jump=nextslide"/>
          </p:cNvPr>
          <p:cNvSpPr/>
          <p:nvPr/>
        </p:nvSpPr>
        <p:spPr>
          <a:xfrm>
            <a:off x="64008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>
            <a:hlinkClick r:id="" action="ppaction://hlinkshowjump?jump=nextslide"/>
          </p:cNvPr>
          <p:cNvSpPr/>
          <p:nvPr/>
        </p:nvSpPr>
        <p:spPr>
          <a:xfrm>
            <a:off x="6934320" y="5257800"/>
            <a:ext cx="53316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>
            <a:hlinkClick r:id="" action="ppaction://hlinkshowjump?jump=nextslide"/>
          </p:cNvPr>
          <p:cNvSpPr/>
          <p:nvPr/>
        </p:nvSpPr>
        <p:spPr>
          <a:xfrm>
            <a:off x="746748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>
            <a:hlinkClick r:id="" action="ppaction://hlinkshowjump?jump=nextslide"/>
          </p:cNvPr>
          <p:cNvSpPr/>
          <p:nvPr/>
        </p:nvSpPr>
        <p:spPr>
          <a:xfrm>
            <a:off x="8001000" y="5257800"/>
            <a:ext cx="53352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>
            <a:hlinkClick r:id="" action="ppaction://hlinkshowjump?jump=nextslide"/>
          </p:cNvPr>
          <p:cNvSpPr/>
          <p:nvPr/>
        </p:nvSpPr>
        <p:spPr>
          <a:xfrm>
            <a:off x="37339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>
            <a:hlinkClick r:id="" action="ppaction://hlinkshowjump?jump=nextslide"/>
          </p:cNvPr>
          <p:cNvSpPr/>
          <p:nvPr/>
        </p:nvSpPr>
        <p:spPr>
          <a:xfrm>
            <a:off x="42670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nextslide"/>
          </p:cNvPr>
          <p:cNvSpPr/>
          <p:nvPr/>
        </p:nvSpPr>
        <p:spPr>
          <a:xfrm>
            <a:off x="48006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>
            <a:hlinkClick r:id="" action="ppaction://hlinkshowjump?jump=nextslide"/>
          </p:cNvPr>
          <p:cNvSpPr/>
          <p:nvPr/>
        </p:nvSpPr>
        <p:spPr>
          <a:xfrm>
            <a:off x="53341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>
            <a:hlinkClick r:id="" action="ppaction://hlinkshowjump?jump=nextslide"/>
          </p:cNvPr>
          <p:cNvSpPr/>
          <p:nvPr/>
        </p:nvSpPr>
        <p:spPr>
          <a:xfrm>
            <a:off x="58672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>
            <a:hlinkClick r:id="" action="ppaction://hlinkshowjump?jump=nextslide"/>
          </p:cNvPr>
          <p:cNvSpPr/>
          <p:nvPr/>
        </p:nvSpPr>
        <p:spPr>
          <a:xfrm>
            <a:off x="64008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>
            <a:hlinkClick r:id="" action="ppaction://hlinkshowjump?jump=nextslide"/>
          </p:cNvPr>
          <p:cNvSpPr/>
          <p:nvPr/>
        </p:nvSpPr>
        <p:spPr>
          <a:xfrm>
            <a:off x="6934320" y="5715000"/>
            <a:ext cx="53316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>
            <a:hlinkClick r:id="" action="ppaction://hlinkshowjump?jump=nextslide"/>
          </p:cNvPr>
          <p:cNvSpPr/>
          <p:nvPr/>
        </p:nvSpPr>
        <p:spPr>
          <a:xfrm>
            <a:off x="746748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>
            <a:hlinkClick r:id="" action="ppaction://hlinkshowjump?jump=nextslide"/>
          </p:cNvPr>
          <p:cNvSpPr/>
          <p:nvPr/>
        </p:nvSpPr>
        <p:spPr>
          <a:xfrm>
            <a:off x="8001000" y="5715000"/>
            <a:ext cx="533520" cy="4046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>
            <a:hlinkClick r:id="" action="ppaction://hlinkshowjump?jump=nextslide"/>
          </p:cNvPr>
          <p:cNvSpPr/>
          <p:nvPr/>
        </p:nvSpPr>
        <p:spPr>
          <a:xfrm>
            <a:off x="3200400" y="6172200"/>
            <a:ext cx="685800" cy="404640"/>
          </a:xfrm>
          <a:prstGeom prst="rect">
            <a:avLst/>
          </a:prstGeom>
          <a:solidFill>
            <a:srgbClr val="00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ff33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676520" y="2362320"/>
            <a:ext cx="53316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286000" y="1600200"/>
            <a:ext cx="533520" cy="63324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8600" y="304812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676520" y="3124080"/>
            <a:ext cx="53316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" y="3962520"/>
            <a:ext cx="2743200" cy="213336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36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+ 1 =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notă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la s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14300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3124080"/>
            <a:ext cx="533520" cy="633600"/>
          </a:xfrm>
          <a:prstGeom prst="rect">
            <a:avLst/>
          </a:prstGeom>
          <a:solidFill>
            <a:srgbClr val="99ff33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114800" y="380880"/>
            <a:ext cx="4648320" cy="9144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 u="sng">
                <a:solidFill>
                  <a:srgbClr val="009999"/>
                </a:solidFill>
                <a:uFillTx/>
                <a:latin typeface="Arial Black"/>
                <a:hlinkClick r:id="rId2" action="ppaction://hlinksldjump"/>
              </a:rPr>
              <a:t> Verifică 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229600" y="685800"/>
            <a:ext cx="380880" cy="32076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>
            <a:hlinkClick r:id="" action="ppaction://hlinkshowjump?jump=firstslide"/>
          </p:cNvPr>
          <p:cNvSpPr/>
          <p:nvPr/>
        </p:nvSpPr>
        <p:spPr>
          <a:xfrm>
            <a:off x="838080" y="289548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8000" spc="-1" strike="noStrike">
                <a:solidFill>
                  <a:srgbClr val="ff0000"/>
                </a:solidFill>
                <a:latin typeface="Arial"/>
              </a:rPr>
              <a:t>124 x 6 = 74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>
            <a:hlinkClick r:id="" action="ppaction://hlinkshowjump?jump=firstslide"/>
          </p:cNvPr>
          <p:cNvSpPr/>
          <p:nvPr/>
        </p:nvSpPr>
        <p:spPr>
          <a:xfrm>
            <a:off x="1447920" y="5562720"/>
            <a:ext cx="5257800" cy="7095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333399"/>
                </a:solidFill>
                <a:latin typeface="Arial"/>
              </a:rPr>
              <a:t>Alege altă înmulţire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09880" y="1752480"/>
            <a:ext cx="4267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RECT !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541440"/>
            <a:ext cx="2209680" cy="21654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516" name="">
            <a:hlinkClick r:id="" action="ppaction://hlinkshowjump?jump=firstslide"/>
          </p:cNvPr>
          <p:cNvSpPr/>
          <p:nvPr/>
        </p:nvSpPr>
        <p:spPr>
          <a:xfrm>
            <a:off x="7543800" y="4495680"/>
            <a:ext cx="990720" cy="175284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752840"/>
              <a:gd name="textAreaBottom" fmla="*/ 1688760 h 1752840"/>
            </a:gdLst>
            <a:ahLst/>
            <a:rect l="textAreaLeft" t="textAreaTop" r="textAreaRight" b="textAreaBottom"/>
            <a:pathLst>
              <a:path w="21600" h="38210">
                <a:moveTo>
                  <a:pt x="0" y="0"/>
                </a:moveTo>
                <a:lnTo>
                  <a:pt x="21600" y="0"/>
                </a:lnTo>
                <a:lnTo>
                  <a:pt x="21600" y="38210"/>
                </a:lnTo>
                <a:lnTo>
                  <a:pt x="0" y="38210"/>
                </a:lnTo>
                <a:close/>
              </a:path>
              <a:path fill="lightenLess" w="21600" h="382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8210">
                <a:moveTo>
                  <a:pt x="21600" y="0"/>
                </a:moveTo>
                <a:lnTo>
                  <a:pt x="21600" y="38210"/>
                </a:lnTo>
                <a:lnTo>
                  <a:pt x="20200" y="36810"/>
                </a:lnTo>
                <a:lnTo>
                  <a:pt x="20200" y="1400"/>
                </a:lnTo>
                <a:close/>
              </a:path>
              <a:path fill="darkenLess" w="21600" h="38210">
                <a:moveTo>
                  <a:pt x="21600" y="38210"/>
                </a:moveTo>
                <a:lnTo>
                  <a:pt x="0" y="38210"/>
                </a:lnTo>
                <a:lnTo>
                  <a:pt x="1400" y="36810"/>
                </a:lnTo>
                <a:lnTo>
                  <a:pt x="20200" y="36810"/>
                </a:lnTo>
                <a:close/>
              </a:path>
              <a:path fill="lighten" w="21600" h="38210">
                <a:moveTo>
                  <a:pt x="0" y="38210"/>
                </a:moveTo>
                <a:lnTo>
                  <a:pt x="0" y="0"/>
                </a:lnTo>
                <a:lnTo>
                  <a:pt x="1400" y="1400"/>
                </a:lnTo>
                <a:lnTo>
                  <a:pt x="1400" y="36810"/>
                </a:lnTo>
                <a:close/>
              </a:path>
              <a:path fill="darken" w="21600" h="38210">
                <a:moveTo>
                  <a:pt x="3794" y="15798"/>
                </a:moveTo>
                <a:lnTo>
                  <a:pt x="7301" y="15798"/>
                </a:lnTo>
                <a:lnTo>
                  <a:pt x="7301" y="21133"/>
                </a:lnTo>
                <a:cubicBezTo>
                  <a:pt x="7301" y="22056"/>
                  <a:pt x="8102" y="22787"/>
                  <a:pt x="9138" y="22787"/>
                </a:cubicBezTo>
                <a:lnTo>
                  <a:pt x="10800" y="22787"/>
                </a:lnTo>
                <a:cubicBezTo>
                  <a:pt x="11836" y="22787"/>
                  <a:pt x="12636" y="22056"/>
                  <a:pt x="12636" y="21133"/>
                </a:cubicBezTo>
                <a:lnTo>
                  <a:pt x="12636" y="15798"/>
                </a:lnTo>
                <a:lnTo>
                  <a:pt x="10800" y="15798"/>
                </a:lnTo>
                <a:lnTo>
                  <a:pt x="14308" y="12290"/>
                </a:lnTo>
                <a:lnTo>
                  <a:pt x="17981" y="15798"/>
                </a:lnTo>
                <a:lnTo>
                  <a:pt x="16144" y="15798"/>
                </a:lnTo>
                <a:lnTo>
                  <a:pt x="16144" y="21133"/>
                </a:lnTo>
                <a:cubicBezTo>
                  <a:pt x="16144" y="23901"/>
                  <a:pt x="13568" y="26460"/>
                  <a:pt x="10800" y="26460"/>
                </a:cubicBezTo>
                <a:lnTo>
                  <a:pt x="9138" y="26460"/>
                </a:lnTo>
                <a:cubicBezTo>
                  <a:pt x="6370" y="26460"/>
                  <a:pt x="3794" y="23901"/>
                  <a:pt x="3794" y="21133"/>
                </a:cubicBezTo>
                <a:close/>
              </a:path>
            </a:pathLst>
          </a:custGeom>
          <a:solidFill>
            <a:srgbClr val="00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13:20:02Z</dcterms:created>
  <dc:creator>*Paulis</dc:creator>
  <dc:description/>
  <dc:language>en-US</dc:language>
  <cp:lastModifiedBy>*</cp:lastModifiedBy>
  <dcterms:modified xsi:type="dcterms:W3CDTF">2007-05-03T20:27:31Z</dcterms:modified>
  <cp:revision>13</cp:revision>
  <dc:subject/>
  <dc:title>Slide 1</dc:title>
</cp:coreProperties>
</file>